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1"/>
          <p:cNvSpPr/>
          <p:nvPr/>
        </p:nvSpPr>
        <p:spPr>
          <a:xfrm>
            <a:off x="0" y="0"/>
            <a:ext cx="6858000" cy="929628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9279">
                <a:moveTo>
                  <a:pt x="5" y="0"/>
                </a:moveTo>
                <a:arcTo wR="5" hR="5" stAng="16200000" swAng="-5400000"/>
                <a:lnTo>
                  <a:pt x="0" y="29274"/>
                </a:lnTo>
                <a:arcTo wR="5" hR="5" stAng="10800000" swAng="-5400000"/>
                <a:lnTo>
                  <a:pt x="21595" y="2927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AutoShape 2"/>
          <p:cNvSpPr/>
          <p:nvPr/>
        </p:nvSpPr>
        <p:spPr>
          <a:xfrm>
            <a:off x="0" y="0"/>
            <a:ext cx="6858000" cy="929628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9279">
                <a:moveTo>
                  <a:pt x="5" y="0"/>
                </a:moveTo>
                <a:arcTo wR="5" hR="5" stAng="16200000" swAng="-5400000"/>
                <a:lnTo>
                  <a:pt x="0" y="29274"/>
                </a:lnTo>
                <a:arcTo wR="5" hR="5" stAng="10800000" swAng="-5400000"/>
                <a:lnTo>
                  <a:pt x="21595" y="2927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AutoShape 3"/>
          <p:cNvSpPr/>
          <p:nvPr/>
        </p:nvSpPr>
        <p:spPr>
          <a:xfrm>
            <a:off x="0" y="0"/>
            <a:ext cx="6858000" cy="929628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9279">
                <a:moveTo>
                  <a:pt x="5" y="0"/>
                </a:moveTo>
                <a:arcTo wR="5" hR="5" stAng="16200000" swAng="-5400000"/>
                <a:lnTo>
                  <a:pt x="0" y="29274"/>
                </a:lnTo>
                <a:arcTo wR="5" hR="5" stAng="10800000" swAng="-5400000"/>
                <a:lnTo>
                  <a:pt x="21595" y="2927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03040" y="696960"/>
            <a:ext cx="46465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440" y="4416120"/>
            <a:ext cx="548172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3"/>
          </p:nvPr>
        </p:nvSpPr>
        <p:spPr>
          <a:xfrm>
            <a:off x="3884400" y="8831160"/>
            <a:ext cx="2966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B23CF-F4BF-4B05-B2F8-37104300F9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9"/>
          <p:cNvSpPr/>
          <p:nvPr/>
        </p:nvSpPr>
        <p:spPr>
          <a:xfrm>
            <a:off x="3884760" y="8831160"/>
            <a:ext cx="2966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26EC4-193D-4513-9759-8A9097C7FD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1"/>
          <p:cNvSpPr/>
          <p:nvPr/>
        </p:nvSpPr>
        <p:spPr>
          <a:xfrm>
            <a:off x="38847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BBBF0-095D-48E7-B58A-ECA9AE2C66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2"/>
          <p:cNvSpPr/>
          <p:nvPr/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685800" y="4416480"/>
            <a:ext cx="5486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540068"/>
                </a:solidFill>
                <a:latin typeface="Arial"/>
                <a:ea typeface="Arial"/>
              </a:rPr>
              <a:t>Texai is an knowledge-based, open source project to create </a:t>
            </a:r>
            <a:r>
              <a:rPr b="0" lang="en-GB" sz="1200" spc="-1" strike="noStrike">
                <a:solidFill>
                  <a:srgbClr val="ccccff"/>
                </a:solidFill>
                <a:latin typeface="Arial"/>
                <a:ea typeface="Arial"/>
              </a:rPr>
              <a:t>artificial intelligence</a:t>
            </a:r>
            <a:r>
              <a:rPr b="0" lang="en-GB" sz="1200" spc="-1" strike="noStrike">
                <a:solidFill>
                  <a:srgbClr val="540068"/>
                </a:solidFill>
                <a:latin typeface="Arial"/>
                <a:ea typeface="Arial"/>
              </a:rPr>
              <a:t>. The project’s approach is to first construct a </a:t>
            </a:r>
            <a:r>
              <a:rPr b="0" lang="en-GB" sz="1200" spc="-1" strike="noStrike">
                <a:solidFill>
                  <a:srgbClr val="ccccff"/>
                </a:solidFill>
                <a:latin typeface="Arial"/>
                <a:ea typeface="Arial"/>
              </a:rPr>
              <a:t>bootstrap</a:t>
            </a:r>
            <a:r>
              <a:rPr b="0" lang="en-GB" sz="1200" spc="-1" strike="noStrike">
                <a:solidFill>
                  <a:srgbClr val="540068"/>
                </a:solidFill>
                <a:latin typeface="Arial"/>
                <a:ea typeface="Arial"/>
              </a:rPr>
              <a:t> English </a:t>
            </a:r>
            <a:r>
              <a:rPr b="0" lang="en-GB" sz="1200" spc="-1" strike="noStrike">
                <a:solidFill>
                  <a:srgbClr val="ccccff"/>
                </a:solidFill>
                <a:latin typeface="Arial"/>
                <a:ea typeface="Arial"/>
              </a:rPr>
              <a:t>dialog system</a:t>
            </a:r>
            <a:r>
              <a:rPr b="0" lang="en-GB" sz="1200" spc="-1" strike="noStrike">
                <a:solidFill>
                  <a:srgbClr val="540068"/>
                </a:solidFill>
                <a:latin typeface="Arial"/>
                <a:ea typeface="Arial"/>
              </a:rPr>
              <a:t> whose goals are to acquire linguistic and common sense skills to improve its own performance.  This talk describes the bi-directional grammar that will be used in the dialog system for parsing and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9"/>
          <p:cNvSpPr/>
          <p:nvPr/>
        </p:nvSpPr>
        <p:spPr>
          <a:xfrm>
            <a:off x="3884760" y="8831160"/>
            <a:ext cx="2966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84458-D06C-4C05-8F1D-20D5444243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Text Box 1"/>
          <p:cNvSpPr/>
          <p:nvPr/>
        </p:nvSpPr>
        <p:spPr>
          <a:xfrm>
            <a:off x="110484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body"/>
          </p:nvPr>
        </p:nvSpPr>
        <p:spPr>
          <a:xfrm>
            <a:off x="685440" y="4416120"/>
            <a:ext cx="5483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9"/>
          <p:cNvSpPr/>
          <p:nvPr/>
        </p:nvSpPr>
        <p:spPr>
          <a:xfrm>
            <a:off x="3884760" y="8831160"/>
            <a:ext cx="2966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9AA09-D085-483C-9618-39979074B5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1"/>
          <p:cNvSpPr/>
          <p:nvPr/>
        </p:nvSpPr>
        <p:spPr>
          <a:xfrm>
            <a:off x="110484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body"/>
          </p:nvPr>
        </p:nvSpPr>
        <p:spPr>
          <a:xfrm>
            <a:off x="685440" y="4416120"/>
            <a:ext cx="5483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9"/>
          <p:cNvSpPr/>
          <p:nvPr/>
        </p:nvSpPr>
        <p:spPr>
          <a:xfrm>
            <a:off x="3884760" y="8831160"/>
            <a:ext cx="2966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70491-D033-44B4-9433-5B435F1FFF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1"/>
          <p:cNvSpPr/>
          <p:nvPr/>
        </p:nvSpPr>
        <p:spPr>
          <a:xfrm>
            <a:off x="110484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685440" y="4416120"/>
            <a:ext cx="5483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9"/>
          <p:cNvSpPr/>
          <p:nvPr/>
        </p:nvSpPr>
        <p:spPr>
          <a:xfrm>
            <a:off x="3884760" y="8831160"/>
            <a:ext cx="2966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C89FD-A795-415C-90E1-7EE2865414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 Box 1"/>
          <p:cNvSpPr/>
          <p:nvPr/>
        </p:nvSpPr>
        <p:spPr>
          <a:xfrm>
            <a:off x="110484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685440" y="4416120"/>
            <a:ext cx="5483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9"/>
          <p:cNvSpPr/>
          <p:nvPr/>
        </p:nvSpPr>
        <p:spPr>
          <a:xfrm>
            <a:off x="3884760" y="8831160"/>
            <a:ext cx="2966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CF0A3-9A96-4136-A887-03B198E6E2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Text Box 1"/>
          <p:cNvSpPr/>
          <p:nvPr/>
        </p:nvSpPr>
        <p:spPr>
          <a:xfrm>
            <a:off x="110484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body"/>
          </p:nvPr>
        </p:nvSpPr>
        <p:spPr>
          <a:xfrm>
            <a:off x="685440" y="4416120"/>
            <a:ext cx="5483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9"/>
          <p:cNvSpPr/>
          <p:nvPr/>
        </p:nvSpPr>
        <p:spPr>
          <a:xfrm>
            <a:off x="3884760" y="8831160"/>
            <a:ext cx="2966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0E44B-F6DD-4ABA-A078-186A6C71D0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1"/>
          <p:cNvSpPr/>
          <p:nvPr/>
        </p:nvSpPr>
        <p:spPr>
          <a:xfrm>
            <a:off x="110484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body"/>
          </p:nvPr>
        </p:nvSpPr>
        <p:spPr>
          <a:xfrm>
            <a:off x="685440" y="4416120"/>
            <a:ext cx="5483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9"/>
          <p:cNvSpPr/>
          <p:nvPr/>
        </p:nvSpPr>
        <p:spPr>
          <a:xfrm>
            <a:off x="3884760" y="8831160"/>
            <a:ext cx="2966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7A32D-5CD7-4FD7-B04A-CE6E290952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 Box 1"/>
          <p:cNvSpPr/>
          <p:nvPr/>
        </p:nvSpPr>
        <p:spPr>
          <a:xfrm>
            <a:off x="110484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body"/>
          </p:nvPr>
        </p:nvSpPr>
        <p:spPr>
          <a:xfrm>
            <a:off x="685440" y="4416120"/>
            <a:ext cx="5483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13690-7F25-4BB9-A40D-D8DBAF17A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93C99-C590-41C7-A6BA-057C38DFC5E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E3829-4FDB-4AC6-B37A-0B85896B3D7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00B21-66A6-4F64-9A17-4D80A2115C1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7AE89-CA1A-4886-98D4-FEDD74500ED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30473-57D5-47B8-B79C-B3640DDBAAC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329C8-C900-42C9-9F37-92FC925E34C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31CD9-DC02-45D5-916A-7C53C0B0364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57D91-1A59-4B06-A566-8C7E4FD6AE3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506CB-D901-4BF4-8816-473579096A8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49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6888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49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6888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BEA08-0835-47DD-AD4F-E3F9AD4C91D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3618EB-2B7E-478E-8B27-8A4334502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E19B-EF0B-4EB9-9CDC-F9C84B0785E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F7D648-74CE-4E1A-95A5-8B681E6CAF5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399F5C-20AA-4092-AB37-F85DD195994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415142-4A48-44F0-BB18-B9E93925ECC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737B10-C207-4154-9556-E4CE2EF4204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DD5AD9-F99B-4C47-A7A9-9EF23ABC389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67E769-41B0-4F64-B5EE-C4AF9C2D305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54A3DA-C30D-428A-81CD-3F537BF4E5B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F19362-2179-453C-A590-73C82D7D109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BBD804-E516-4792-B3A3-83D78985D96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604537-C045-4E44-9C6C-16017ACC7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49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6888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49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6888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E9AC5-ADCC-445E-A31A-0680E6C334C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49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6888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49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6888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7F413D-98D9-4F9B-9254-3431C8D9F0A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25388A-D8F2-42FB-9C09-DEC51368791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EA0D57-E90E-49F3-B503-79AC240505F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5ECC43-51BC-47AE-A233-803596D85A1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D1076-0D57-488F-9DFB-29075986965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64956C-4801-4647-BCB8-C476A494F3A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70CB7-1D9C-4A62-9762-0B416E3D79C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8F2E7-AB91-4F7E-9B56-677F163A8AA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5CE11E-F464-4859-873D-118ACFDB52E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57A1F3-AA02-4815-A10E-3371A1B92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B329D-19DB-4641-984E-E772671617A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FE8C7F-CFBE-4F68-82E9-C4AFB999ABD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579FB6-E447-4AD2-9EAE-87D68D30A1C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49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6888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49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6888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73D63C-993D-44B0-BA5F-E55C5ED26C4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A1528-247A-4493-9849-77FA7B8D21C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5C199-67E5-45D6-AAEC-CF0F20ED74A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0344A-B03B-4094-91C7-5B12DA47594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C4E1C-0876-4D9F-A34E-62EF525DAAE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55716-50C7-4A73-AE85-B28E3C69936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BB01E-64D5-445D-B6B5-1BF3B6DF3E3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8962B-4494-4167-8473-D15AA3C8C8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A2D1-BAC5-49AC-8DF8-B1E5028A078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580AA-3FAF-48A0-9363-330FE5EBC78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6643B-5EB5-4748-90AD-048C161C992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BC07D-C04E-46BF-97C2-DCDF6DEB6C1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2FC1D-3282-4E8A-B88D-1379F017D83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49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6888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49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6888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05584-5ADD-459F-A025-00170C7B6C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CABF3-5F4F-46A7-BB9C-7825F6A330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2D1A3-E0D3-4B95-9B42-336DF951C9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0387E-61E9-4F52-83DF-DF46FF3C1F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61B38-1B8F-4726-A733-E0299151BA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47941-8119-494E-BC4A-8583FB88A7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B891-9558-4E88-A172-49E818629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D62C2-755A-4F5C-89C3-9B36D45DD9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1F48B-CDE1-4BE5-9473-26DD1CCE74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3E571-092C-4832-8E47-526E5F7713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7CAF7-E41A-42FC-8B51-F8ADEA80DF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49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6888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49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6888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7FDEE-5FED-4B80-A80B-7C7E9B72D8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29C-5D54-4B05-A93A-F0C5AAC9D7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99B-E567-4252-B0C9-8E49E194BC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AD0D-6BBA-4AAC-8CA7-146EDED55B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6239-F171-4DDF-8E7C-71DBFFD93B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90C-4A70-4C32-9053-0BE0F389CB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36EF-23E5-4DA1-ADE5-F674907ABC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3ACD-FB52-4A9C-98F0-2F8785C661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2F9-F55E-44CB-ADC4-38C9FB2DCE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BB01-2EE6-4592-98C8-BBE1E95D1F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FBD-1F24-4A29-8DCB-720CEB92AF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0659-AE21-4BA4-8E75-7E2D449003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2BF9-B179-49D2-B6D1-FFE1FED71C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49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6888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49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6888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300-8B40-4E02-BF31-DEEDDD6B7E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8B5AF-D964-4D95-AD9B-C690667F90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CD12A-8195-4FD4-8158-0AF96E4BAA9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4371B-C30B-4242-89E5-5AD1A9166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FBC7-951A-4C6A-A920-6AE7E603D2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2B752-8734-4749-ACB1-815CE13305A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EC291-14A3-440F-ADED-B3344AD9F0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528A5-3BB3-4E08-B8BA-A1C72D875C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88399-CD63-4F23-94E2-CBC1FDCCFDC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F5AA5-AD6D-4E1F-A3BB-BFC20268EE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7F707-D599-49D7-8358-99BD862A6A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259FE-F5C3-490D-9B8B-19E2150FE5D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99BBA-4AF3-4EEE-8B23-8F660D6C6EE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49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6888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49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6888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6CF3D-CA5D-47D4-A526-A7780366DD2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3B7D2-19A8-465D-A1D6-6008F2BC8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DCCD-2D6F-4BA6-9C4E-754C4C090E8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609D6-922F-4CEC-8711-C1F42381E89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DE498-C059-47A0-817D-EE66A0DFE43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24C50-A331-4F0E-9C0F-B2D49B3053F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686CD-0AA4-403A-8420-801CF21EE82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4F71F-AA3A-406E-8C9A-1821553E210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1DB01-C99F-40FC-B217-14E936A9211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98E08-087A-462F-A0B4-A9FA2144DDB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1CFB7-5E0B-4BB6-965B-F1D1ECE48D5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29BAC-D621-4428-B842-90491E4CCB4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263B7-7430-4360-9B92-A39B155F7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F5A3-A244-42F3-8DED-9EABF33B230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49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6888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49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6888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4C1FC-60E6-495F-B9BE-CAA3F8FEB3E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9B02-3660-4B58-89ED-E624B9C1C18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1D6E-47D3-4E46-A88C-4A3673CB76A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B73E-BE0F-42BF-B148-02209BC6D55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FA0A-27DA-4D51-9861-F3677908B85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3C13-84CA-4869-90BE-9B71D0B76C1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18B5-08A5-4D9B-8561-52989C576F5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AF4D-E178-456C-B31D-D12818FA24D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B06D-98EE-4F4C-8612-1EDEDFE051A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A5E9-44A0-40D4-9D04-DCC996957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2C19-7795-4C2B-949F-D87EB6A8B03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26B7-8BD8-4517-A174-4FDA6948C5F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BF9B-7436-4A2C-8C6D-E6C743E7AFB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49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6888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49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6888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DFD6-2D85-4251-93DD-51FCB047B9F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5E6347-5297-4053-8F87-12CD2D00890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850BA1-3192-4442-A4CA-8073D7466DA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5C657C-A34D-4D17-83FE-E8C3063B0C6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5CEE3E-2D2C-4098-8656-39F6D900317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B93C2B-0363-4C5F-941F-82194E578FC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243F94-2BCC-4BE5-B222-31F7FB85308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134D70-9969-417B-BDE5-FE3887CBC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8BA1-839E-4AD2-A27E-317548BEDE3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1A791C-437F-4C44-A5E4-32A6E09CB49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4B6772-12EB-4481-A72D-D73E0F94AB5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AE4D48-0DFA-42C2-B12C-4C85398B724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81613B-86DB-4FD2-B3F1-D287B000C9B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49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6888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49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6888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711131-1E32-4FD6-BEAE-580FC50BF51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BB4CF-2AF5-45AC-B33F-E11DE3A2D84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E9D7D-53E1-4126-8FD1-E7812098612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79FFB-65AD-4500-B42E-283BA48296E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78931-BB8B-4C9D-B985-8A9883BDCE0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1D8D9-3B5A-4CD9-A1A7-A47D4F509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88B7-24A3-4E48-A5A5-14C787BC75E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E7421-8EF1-4D45-BB9D-A1F87254FA4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3821A-AEC4-4C2C-885E-86E28A62C6D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FB73E-BBAD-4FCC-8ECA-D3048B66166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089A6-5CDD-493F-9D01-AE268F6F6A5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080"/>
            <a:ext cx="85294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4D987-FF12-4784-9759-DCAFBE9B540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2080" y="3925080"/>
            <a:ext cx="41623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B8248-0F7B-49F0-AC34-88498C8DA48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492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68880" y="152352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492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68880" y="3925080"/>
            <a:ext cx="2746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50D596-42B7-4A48-9616-2D9D75CD84B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8FF91-2E22-4235-97A1-C46AC4F2600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9D258-E96D-41AD-AEAF-50E982B2421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31E04-BBBD-4788-BB7A-025390EF4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texai.org/" TargetMode="External"/><Relationship Id="rId3" Type="http://schemas.openxmlformats.org/officeDocument/2006/relationships/hyperlink" Target="http://texai.org/" TargetMode="Externa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5791320" y="6405480"/>
            <a:ext cx="3044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304920" y="6410160"/>
            <a:ext cx="3581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9f7a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Oval 1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sldNum" idx="1"/>
          </p:nvPr>
        </p:nvSpPr>
        <p:spPr>
          <a:xfrm>
            <a:off x="4343040" y="1039680"/>
            <a:ext cx="45252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9f7a7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8D42D-3065-49C9-BA5D-3ECC6FB095B4}" type="slidenum">
              <a:rPr b="0" lang="en-US" sz="1600" spc="-1" strike="noStrike">
                <a:solidFill>
                  <a:srgbClr val="9f7a7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103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2880" indent="-270000">
              <a:lnSpc>
                <a:spcPct val="103000"/>
              </a:lnSpc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17560" indent="-228600">
              <a:lnSpc>
                <a:spcPct val="103000"/>
              </a:lnSpc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224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1"/>
          <p:cNvSpPr/>
          <p:nvPr/>
        </p:nvSpPr>
        <p:spPr>
          <a:xfrm>
            <a:off x="152280" y="533520"/>
            <a:ext cx="8832960" cy="1440"/>
          </a:xfrm>
          <a:prstGeom prst="line">
            <a:avLst/>
          </a:prstGeom>
          <a:ln w="11520">
            <a:solidFill>
              <a:srgbClr val="9f7a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103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2880" indent="-270000">
              <a:lnSpc>
                <a:spcPct val="103000"/>
              </a:lnSpc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17560" indent="-228600">
              <a:lnSpc>
                <a:spcPct val="103000"/>
              </a:lnSpc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224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10"/>
          </p:nvPr>
        </p:nvSpPr>
        <p:spPr>
          <a:xfrm>
            <a:off x="1371240" y="312840"/>
            <a:ext cx="452520" cy="43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9f7a7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307AB-24BE-469C-AB5E-C240555F09FE}" type="slidenum">
              <a:rPr b="0" lang="en-US" sz="1600" spc="-1" strike="noStrike">
                <a:solidFill>
                  <a:srgbClr val="9f7a7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5"/>
          <p:cNvSpPr/>
          <p:nvPr/>
        </p:nvSpPr>
        <p:spPr>
          <a:xfrm>
            <a:off x="5788080" y="6405480"/>
            <a:ext cx="3044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6"/>
          <p:cNvSpPr/>
          <p:nvPr/>
        </p:nvSpPr>
        <p:spPr>
          <a:xfrm>
            <a:off x="301680" y="6410160"/>
            <a:ext cx="3584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7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9f7a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Oval 8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9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103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2880" indent="-270000">
              <a:lnSpc>
                <a:spcPct val="103000"/>
              </a:lnSpc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17560" indent="-228600">
              <a:lnSpc>
                <a:spcPct val="103000"/>
              </a:lnSpc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224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Text Box 12"/>
          <p:cNvSpPr/>
          <p:nvPr/>
        </p:nvSpPr>
        <p:spPr>
          <a:xfrm>
            <a:off x="5791320" y="6405480"/>
            <a:ext cx="3044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11"/>
          </p:nvPr>
        </p:nvSpPr>
        <p:spPr>
          <a:xfrm>
            <a:off x="4343040" y="1039680"/>
            <a:ext cx="45252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9f7a7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B85CA-C152-4628-924C-DC4A4C52BA7B}" type="slidenum">
              <a:rPr b="0" lang="en-US" sz="1600" spc="-1" strike="noStrike">
                <a:solidFill>
                  <a:srgbClr val="9f7a7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2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7"/>
          <p:cNvSpPr/>
          <p:nvPr/>
        </p:nvSpPr>
        <p:spPr>
          <a:xfrm>
            <a:off x="7143840" y="155520"/>
            <a:ext cx="1440" cy="6245280"/>
          </a:xfrm>
          <a:prstGeom prst="line">
            <a:avLst/>
          </a:prstGeom>
          <a:ln w="9360">
            <a:solidFill>
              <a:srgbClr val="9f7a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Oval 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103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2880" indent="-270000">
              <a:lnSpc>
                <a:spcPct val="103000"/>
              </a:lnSpc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17560" indent="-228600">
              <a:lnSpc>
                <a:spcPct val="103000"/>
              </a:lnSpc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224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12"/>
          </p:nvPr>
        </p:nvSpPr>
        <p:spPr>
          <a:xfrm>
            <a:off x="6914880" y="3009600"/>
            <a:ext cx="452520" cy="43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9f7a7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9F371-7226-40C1-976B-9A417A270517}" type="slidenum">
              <a:rPr b="0" lang="en-US" sz="1600" spc="-1" strike="noStrike">
                <a:solidFill>
                  <a:srgbClr val="9f7a7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3"/>
          <p:cNvSpPr/>
          <p:nvPr/>
        </p:nvSpPr>
        <p:spPr>
          <a:xfrm>
            <a:off x="5791320" y="6405480"/>
            <a:ext cx="3044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4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155520" y="2419200"/>
            <a:ext cx="8832960" cy="1800"/>
          </a:xfrm>
          <a:prstGeom prst="line">
            <a:avLst/>
          </a:prstGeom>
          <a:ln w="11520">
            <a:solidFill>
              <a:srgbClr val="9f7a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103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2880" indent="-270000">
              <a:lnSpc>
                <a:spcPct val="103000"/>
              </a:lnSpc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17560" indent="-228600">
              <a:lnSpc>
                <a:spcPct val="103000"/>
              </a:lnSpc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224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lnSpc>
                <a:spcPct val="103000"/>
              </a:lnSpc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lnSpc>
                <a:spcPct val="103000"/>
              </a:lnSpc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5791320" y="6405480"/>
            <a:ext cx="3044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4343040" y="2198520"/>
            <a:ext cx="45252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9f7a7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F493B-E3FD-46D5-B1D3-1B60CF03F0B6}" type="slidenum">
              <a:rPr b="0" lang="en-US" sz="1600" spc="-1" strike="noStrike">
                <a:solidFill>
                  <a:srgbClr val="9f7a7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hen L Reed,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texai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March 5,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9f7a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8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103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2880" indent="-270000">
              <a:lnSpc>
                <a:spcPct val="103000"/>
              </a:lnSpc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17560" indent="-228600">
              <a:lnSpc>
                <a:spcPct val="103000"/>
              </a:lnSpc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224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791320" y="6405480"/>
            <a:ext cx="3044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4362120" y="1027080"/>
            <a:ext cx="45252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9f7a7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D5134-7E24-4845-93BD-9F482FE0D632}" type="slidenum">
              <a:rPr b="0" lang="en-US" sz="1600" spc="-1" strike="noStrike">
                <a:solidFill>
                  <a:srgbClr val="9f7a7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152280" y="2438280"/>
            <a:ext cx="8832960" cy="1800"/>
          </a:xfrm>
          <a:prstGeom prst="line">
            <a:avLst/>
          </a:prstGeom>
          <a:ln w="11520">
            <a:solidFill>
              <a:srgbClr val="9f7a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103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2880" indent="-270000">
              <a:lnSpc>
                <a:spcPct val="103000"/>
              </a:lnSpc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17560" indent="-228600">
              <a:lnSpc>
                <a:spcPct val="103000"/>
              </a:lnSpc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224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791320" y="6405480"/>
            <a:ext cx="3044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4"/>
          </p:nvPr>
        </p:nvSpPr>
        <p:spPr>
          <a:xfrm>
            <a:off x="4343040" y="2198520"/>
            <a:ext cx="45252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9f7a7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3044C-08F0-4A7F-917E-B2FB78E79436}" type="slidenum">
              <a:rPr b="0" lang="en-US" sz="1600" spc="-1" strike="noStrike">
                <a:solidFill>
                  <a:srgbClr val="9f7a7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9f7a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9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 flipV="1">
            <a:off x="4562640" y="1571760"/>
            <a:ext cx="9360" cy="4827600"/>
          </a:xfrm>
          <a:prstGeom prst="line">
            <a:avLst/>
          </a:prstGeom>
          <a:ln w="9360">
            <a:solidFill>
              <a:srgbClr val="4e3b3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103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2880" indent="-270000">
              <a:lnSpc>
                <a:spcPct val="103000"/>
              </a:lnSpc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17560" indent="-228600">
              <a:lnSpc>
                <a:spcPct val="103000"/>
              </a:lnSpc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224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5791320" y="6410160"/>
            <a:ext cx="3044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5"/>
          </p:nvPr>
        </p:nvSpPr>
        <p:spPr>
          <a:xfrm>
            <a:off x="4343040" y="1039680"/>
            <a:ext cx="45252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9f7a7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C22D6-FAE1-4991-92BE-34976E265AE4}" type="slidenum">
              <a:rPr b="0" lang="en-US" sz="1600" spc="-1" strike="noStrike">
                <a:solidFill>
                  <a:srgbClr val="9f7a7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Line 1"/>
          <p:cNvSpPr/>
          <p:nvPr/>
        </p:nvSpPr>
        <p:spPr>
          <a:xfrm flipV="1">
            <a:off x="4572000" y="2195280"/>
            <a:ext cx="1440" cy="4197240"/>
          </a:xfrm>
          <a:prstGeom prst="line">
            <a:avLst/>
          </a:prstGeom>
          <a:ln w="9360">
            <a:solidFill>
              <a:srgbClr val="4e3b3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52280" y="1279440"/>
            <a:ext cx="8832960" cy="1800"/>
          </a:xfrm>
          <a:prstGeom prst="line">
            <a:avLst/>
          </a:prstGeom>
          <a:ln w="11520">
            <a:solidFill>
              <a:srgbClr val="9f7a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103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2880" indent="-270000">
              <a:lnSpc>
                <a:spcPct val="103000"/>
              </a:lnSpc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17560" indent="-228600">
              <a:lnSpc>
                <a:spcPct val="103000"/>
              </a:lnSpc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224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5791320" y="6405480"/>
            <a:ext cx="3044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6"/>
          </p:nvPr>
        </p:nvSpPr>
        <p:spPr>
          <a:xfrm>
            <a:off x="4343040" y="1042920"/>
            <a:ext cx="45252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9f7a7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6F479-7048-405F-BD47-E9017B730864}" type="slidenum">
              <a:rPr b="0" lang="en-US" sz="1600" spc="-1" strike="noStrike">
                <a:solidFill>
                  <a:srgbClr val="9f7a7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9f7a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8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9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103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2880" indent="-270000">
              <a:lnSpc>
                <a:spcPct val="103000"/>
              </a:lnSpc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17560" indent="-228600">
              <a:lnSpc>
                <a:spcPct val="103000"/>
              </a:lnSpc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224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5791320" y="6405480"/>
            <a:ext cx="3044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7"/>
          </p:nvPr>
        </p:nvSpPr>
        <p:spPr>
          <a:xfrm>
            <a:off x="4343040" y="1036800"/>
            <a:ext cx="452520" cy="43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9f7a7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CC91A-10A6-4320-97C1-5C2654B37DD3}" type="slidenum">
              <a:rPr b="0" lang="en-US" sz="1600" spc="-1" strike="noStrike">
                <a:solidFill>
                  <a:srgbClr val="9f7a7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103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2880" indent="-270000">
              <a:lnSpc>
                <a:spcPct val="103000"/>
              </a:lnSpc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17560" indent="-228600">
              <a:lnSpc>
                <a:spcPct val="103000"/>
              </a:lnSpc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224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5791320" y="6405480"/>
            <a:ext cx="3044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sldNum" idx="8"/>
          </p:nvPr>
        </p:nvSpPr>
        <p:spPr>
          <a:xfrm>
            <a:off x="4267080" y="6324480"/>
            <a:ext cx="60480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8C569-B746-4801-805A-560E6EF0195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8"/>
          <p:cNvSpPr/>
          <p:nvPr/>
        </p:nvSpPr>
        <p:spPr>
          <a:xfrm>
            <a:off x="152280" y="533520"/>
            <a:ext cx="8832960" cy="1440"/>
          </a:xfrm>
          <a:prstGeom prst="line">
            <a:avLst/>
          </a:prstGeom>
          <a:ln w="11520">
            <a:solidFill>
              <a:srgbClr val="9f7a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Oval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103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2880" indent="-270000">
              <a:lnSpc>
                <a:spcPct val="103000"/>
              </a:lnSpc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17560" indent="-228600">
              <a:lnSpc>
                <a:spcPct val="103000"/>
              </a:lnSpc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224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3000"/>
              </a:lnSpc>
              <a:spcBef>
                <a:spcPts val="675"/>
              </a:spcBef>
              <a:buClr>
                <a:srgbClr val="c3986d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9"/>
          </p:nvPr>
        </p:nvSpPr>
        <p:spPr>
          <a:xfrm>
            <a:off x="1371240" y="312840"/>
            <a:ext cx="452520" cy="43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9f7a7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0179A-B7B2-489E-BEF7-C80EBB9094C9}" type="slidenum">
              <a:rPr b="0" lang="en-US" sz="1600" spc="-1" strike="noStrike">
                <a:solidFill>
                  <a:srgbClr val="9f7a7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5"/>
          <p:cNvSpPr/>
          <p:nvPr/>
        </p:nvSpPr>
        <p:spPr>
          <a:xfrm>
            <a:off x="5791320" y="6405480"/>
            <a:ext cx="3044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6"/>
          <p:cNvSpPr/>
          <p:nvPr/>
        </p:nvSpPr>
        <p:spPr>
          <a:xfrm>
            <a:off x="301680" y="6410160"/>
            <a:ext cx="3382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exai.org/blog/about/texai-project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2.wmf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wmf"/><Relationship Id="rId11" Type="http://schemas.openxmlformats.org/officeDocument/2006/relationships/image" Target="../media/image6.jpeg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1"/>
          <p:cNvSpPr/>
          <p:nvPr/>
        </p:nvSpPr>
        <p:spPr>
          <a:xfrm>
            <a:off x="1371600" y="3429000"/>
            <a:ext cx="640080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Georgia"/>
              </a:rPr>
              <a:t>STEPHEN L. R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Georgia"/>
              </a:rPr>
              <a:t>PRINCIPAL DEVELO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eorgia"/>
                <a:hlinkClick r:id="rId1"/>
              </a:rPr>
              <a:t>TEXAI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ad1f1f"/>
                </a:solidFill>
                <a:latin typeface="Georgia"/>
              </a:rPr>
              <a:t>Austin, Tex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2"/>
          <p:cNvSpPr/>
          <p:nvPr/>
        </p:nvSpPr>
        <p:spPr>
          <a:xfrm>
            <a:off x="457200" y="85716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7f7f00"/>
                </a:solidFill>
                <a:latin typeface="Georgia"/>
              </a:rPr>
              <a:t>OpenCyc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7f7f00"/>
                </a:solidFill>
                <a:latin typeface="Georgia"/>
              </a:rPr>
              <a:t>Commonsense AI Tutor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4343400" y="2198520"/>
            <a:ext cx="4525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92276-DF01-4A7B-9497-F8E4D7F45017}" type="slidenum">
              <a:rPr b="0" lang="en-US" sz="1600" spc="-1" strike="noStrike">
                <a:solidFill>
                  <a:srgbClr val="9f7a7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" descr=""/>
          <p:cNvPicPr/>
          <p:nvPr/>
        </p:nvPicPr>
        <p:blipFill>
          <a:blip r:embed="rId1"/>
          <a:stretch/>
        </p:blipFill>
        <p:spPr>
          <a:xfrm>
            <a:off x="838080" y="190440"/>
            <a:ext cx="8077320" cy="612936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152280" y="10476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Data Cloud illustrating knowledge source integration via shared ont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648320" y="55627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“</a:t>
            </a: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Learn proper nouns” </a:t>
            </a:r>
            <a:r>
              <a:rPr b="0" lang="en-US" sz="3300" spc="-1" strike="noStrike">
                <a:solidFill>
                  <a:srgbClr val="9f7a70"/>
                </a:solidFill>
                <a:latin typeface="Wingdings"/>
                <a:ea typeface="Wingdings"/>
              </a:rPr>
              <a:t></a:t>
            </a: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 logic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85560" y="1371240"/>
            <a:ext cx="71578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2000" indent="0">
              <a:lnSpc>
                <a:spcPct val="8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ssignment-Obligation2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rdf:type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cyc:Assignment-Obligation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2000" indent="0">
              <a:lnSpc>
                <a:spcPct val="8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ssignment-Obligation2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yc:allottedAgents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Addressee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2000" indent="0">
              <a:lnSpc>
                <a:spcPct val="8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ssignment-Obligation2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yc:assigner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Speaker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2000" indent="0">
              <a:lnSpc>
                <a:spcPct val="8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ssignment-Obligation2 assignmentPostCondition Learning3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2000" indent="0">
              <a:lnSpc>
                <a:spcPct val="8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2000" indent="0">
              <a:lnSpc>
                <a:spcPct val="8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Learning3 typeOrSubClassOf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yc:Learning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2000" indent="0">
              <a:lnSpc>
                <a:spcPct val="8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Learning3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yc:actionFulfillsAssignment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Assignment-Obligation2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2000" indent="0">
              <a:lnSpc>
                <a:spcPct val="8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Learning3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yc:situationConstituents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Addressee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2000" indent="0">
              <a:lnSpc>
                <a:spcPct val="8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Learning3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yc:performedBy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Addressee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2000" indent="0">
              <a:lnSpc>
                <a:spcPct val="8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Learning3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yc:thingComprehended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ProperCountNoun1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2000" indent="0">
              <a:lnSpc>
                <a:spcPct val="8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Learning3 fcgDiscourseRole Addressee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2000" indent="0">
              <a:lnSpc>
                <a:spcPct val="8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Learning3 fcgStatus SingleObject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2000" indent="0">
              <a:lnSpc>
                <a:spcPct val="8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Learning3 situationHappeningOnDate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yc:Now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2000" indent="0">
              <a:lnSpc>
                <a:spcPct val="8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2000" indent="0">
              <a:lnSpc>
                <a:spcPct val="8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perCountNoun1 typeOrSubClassOf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yc:ProperCountNoun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2000" indent="0">
              <a:lnSpc>
                <a:spcPct val="8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perCountNoun1 fcgDiscourseRole External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2000" indent="0">
              <a:lnSpc>
                <a:spcPct val="8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perCountNoun1 fcgStatus MultipleObjects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2000" indent="0">
              <a:lnSpc>
                <a:spcPct val="8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9" name=""/>
          <p:cNvSpPr/>
          <p:nvPr/>
        </p:nvSpPr>
        <p:spPr>
          <a:xfrm>
            <a:off x="7238880" y="1981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you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315200" y="3344760"/>
            <a:ext cx="8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226280" y="52182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 nou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‘</a:t>
            </a: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BethLynn Maxwell is a proper noun </a:t>
            </a:r>
            <a:r>
              <a:rPr b="0" lang="en-US" sz="3300" spc="-1" strike="noStrike">
                <a:solidFill>
                  <a:srgbClr val="9f7a70"/>
                </a:solidFill>
                <a:latin typeface="Wingdings"/>
                <a:ea typeface="Wingdings"/>
              </a:rPr>
              <a:t></a:t>
            </a: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 logic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33" name=""/>
          <p:cNvSpPr/>
          <p:nvPr/>
        </p:nvSpPr>
        <p:spPr>
          <a:xfrm>
            <a:off x="304920" y="1295280"/>
            <a:ext cx="7467480" cy="50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LexicalWord1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rdf:type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FCGClauseSubject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LexicalWord1 typeOrSubClassOf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yc:LexicalWord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LexicalWord1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yc:wordStrings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"BethLynn Maxwell"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LexicalWord1 fcgDiscourseRole External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LexicalWord1 fcgStatus SingleObject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mplicationSituation3 typeOrSubClassOf ImplicationSituatio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mplicationSituation3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yc:situationConstituents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LexicalWord1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mplicationSituation3 implicationAntecedant LexicalWord1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mplicationSituation3 implicationConsequent ProperCountNoun2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mplicationSituation3 fcgDiscourseRole External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mplicationSituation3 fcgStatus SingleObject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mplicationSituation3 situationHappeningOnDate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cyc:Now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perCountNoun2 typeOrSubClassOf IndefiniteThingInThisDiscourse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perCountNoun2 typeOrSubClassOf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yc:ProperCountNoun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perCountNoun2 fcgDiscourseRole External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perCountNoun2 fcgStatus SingleObject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086600" y="1828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hlynn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1629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162920" y="4921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per no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SPARQL that matches “X is a proper noun”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38" name=""/>
          <p:cNvSpPr/>
          <p:nvPr/>
        </p:nvSpPr>
        <p:spPr>
          <a:xfrm>
            <a:off x="380880" y="1828800"/>
            <a:ext cx="800100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EFIX rdf: &lt;http://www.w3.org/1999/02/22-rdf-syntax-ns#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EFIX cyc: &lt;http://sw.cyc.com/2006/07/27/cyc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EFIX texai: &lt;http://texai.org/texai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LECT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?LexicalWord1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?CharacterSt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HE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?LexicalWord1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cyc:wordStrings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?CharacterString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?LexicalWord1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df:type cyc:LexicalWord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?ProperCountNoun2 rdf:type cyc:ProperCountNou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_:ImplicationSituation3 texai:implicationAntecedant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?LexicalWord1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_:ImplicationSituation3 texai:implicationConsequent ?ProperCountNoun2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exai uses this query to perceive that the character string ‘BethLynn’ is to be used when creating the morphological rule for the corresponding proper no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51920" y="479160"/>
            <a:ext cx="899172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664d"/>
                </a:solidFill>
                <a:latin typeface="Georgia"/>
              </a:rPr>
              <a:t>OpenCyc Annoyances</a:t>
            </a:r>
            <a:endParaRPr b="0" lang="en-US" sz="32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5560" cy="55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Does not include the several million commonsense assertions and rules from full proprietary Cyc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01000"/>
              </a:lnSpc>
              <a:spcBef>
                <a:spcPts val="550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e3b30"/>
                </a:solidFill>
                <a:latin typeface="Georgia"/>
              </a:rPr>
              <a:t>ResearchCyc does that</a:t>
            </a: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OpenCyc’s inference engine and object store are not free softwar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No current provision for vetting and incorporating volunteer ontology inpu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Continues as an incompatible superset of the Semantic Web (W3C) RDF/OWL standar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Authored by philosophers and mathematicians, thus an impedance mismatch with the needs of computational linguist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3160" y="1523880"/>
            <a:ext cx="4165560" cy="57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Fine cross-cutting distinctions in the upper ontology make integration of lower level concepts more difficult – i.e. disjointness is rampan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Due to staff turnover, the passage of time, initially poor authoring guidelines, and until a few years ago – lack of unit tests, quality (e.g. well-formedness) and coverage is inconsisten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01000"/>
              </a:lnSpc>
              <a:spcBef>
                <a:spcPts val="550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e3b30"/>
                </a:solidFill>
                <a:latin typeface="Georgia"/>
              </a:rPr>
              <a:t>Cyc authored what its sponsors funded</a:t>
            </a: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Often there are multiple approaches to encoding the same knowledg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01000"/>
              </a:lnSpc>
              <a:spcBef>
                <a:spcPts val="550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e3b30"/>
                </a:solidFill>
                <a:latin typeface="Georgia"/>
              </a:rPr>
              <a:t>Davidsonian events vs direct assertions between role players in an event</a:t>
            </a: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  <a:p>
            <a:pPr marL="268200"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2" name="Slide Number Placeholder 4"/>
          <p:cNvSpPr/>
          <p:nvPr/>
        </p:nvSpPr>
        <p:spPr>
          <a:xfrm>
            <a:off x="4362480" y="1027080"/>
            <a:ext cx="4525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68CD9-EC78-4F10-B5D9-18876B32BE5A}" type="slidenum">
              <a:rPr b="0" lang="en-US" sz="1600" spc="-1" strike="noStrike">
                <a:solidFill>
                  <a:srgbClr val="9f7a7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Summary &amp; Questions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294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93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t some point in AGI development, it will be useful to incorporate OpenCyc cont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93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ikewise, Linked Open Data, mapped with a shared ontology, is a useful knowledge source input to an AGI, or conversely a means by which an AGI can disseminate its own knowledg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8200" indent="0">
              <a:lnSpc>
                <a:spcPct val="93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8200" indent="0" algn="ctr">
              <a:lnSpc>
                <a:spcPct val="9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Questions??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8200" indent="0" algn="ctr">
              <a:lnSpc>
                <a:spcPct val="9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8200" indent="0" algn="ctr">
              <a:lnSpc>
                <a:spcPct val="93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enjoy the rest of AGI-09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1920" y="479160"/>
            <a:ext cx="899172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664d"/>
                </a:solidFill>
                <a:latin typeface="Georgia"/>
              </a:rPr>
              <a:t>History of the Cyc Project</a:t>
            </a:r>
            <a:endParaRPr b="0" lang="en-US" sz="32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55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1982, Japan begins the Fifth Generation Computer projec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1982, the Microelectronics and Computer Technology Corp (MCC) formed in respons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1984 MCC recruits Doug Lenat from Stanford to create a commonsense knowledge base overcoming the brittleness of then current expert systems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1995 - As corporate sponsorships diminished, the Cyc project was spun-off into Cycorp, the company.  The name is a play on an entity in the Babylon 5 TV series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1523880"/>
            <a:ext cx="416556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Late 1990’s – Cycorp completes the tenth rewrite of its inference engine and object store and begins its migration from Symbolics Lisp Machines to Linux PC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1999 Cycorp strengthens its relationships with US military and intelligence community sponsors, which to this day provide the majority of its funding – believing that a commonsense ontology is a hub for integrating disparate military and intelligence system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2001 – OpenCyc releas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2006 – Cycorp implements a Java runtime for its Lisp source cod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Slide Number Placeholder 4"/>
          <p:cNvSpPr/>
          <p:nvPr/>
        </p:nvSpPr>
        <p:spPr>
          <a:xfrm>
            <a:off x="4362480" y="1027080"/>
            <a:ext cx="4525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E6EA8-7312-4BFA-A6EE-0874EF58CA3D}" type="slidenum">
              <a:rPr b="0" lang="en-US" sz="1600" spc="-1" strike="noStrike">
                <a:solidFill>
                  <a:srgbClr val="9f7a7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1920" y="479160"/>
            <a:ext cx="899172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664d"/>
                </a:solidFill>
                <a:latin typeface="Georgia"/>
              </a:rPr>
              <a:t>What is OpenCyc? </a:t>
            </a:r>
            <a:endParaRPr b="0" lang="en-US" sz="32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5560" cy="49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Developed by Cycorp, a government sponsored research company in Austin, Texa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A free, comprehensive ontology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Hundreds of thousands of terms, mostly classes of thing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Over a million logical statements defining those term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Manually created by a team of philosophers over a 20 year durati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A large portion is compatible with Resource Description Framework (RDF) the logical language of the Semantic Web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1523880"/>
            <a:ext cx="4165560" cy="274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Hosted at SourceForg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emporarily offline while the proprietary object store and inference engine is converted to Jav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Cycorp published OpenCyc in order to promote its ontology as a standard for the semantic web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4362480" y="1027080"/>
            <a:ext cx="4525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F10CE-F185-4FDE-AC77-0E3211F0F539}" type="slidenum">
              <a:rPr b="0" lang="en-US" sz="1600" spc="-1" strike="noStrike">
                <a:solidFill>
                  <a:srgbClr val="9f7a7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637000" y="2867040"/>
            <a:ext cx="3771720" cy="180504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  <a:effectLst>
            <a:outerShdw dist="153753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703600" y="2954160"/>
            <a:ext cx="1415880" cy="5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y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491080" y="3257640"/>
            <a:ext cx="550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3935520" y="3789360"/>
            <a:ext cx="2170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33920" y="4327560"/>
            <a:ext cx="550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2700360" y="3051000"/>
            <a:ext cx="2479680" cy="1471320"/>
            <a:chOff x="2700360" y="3051000"/>
            <a:chExt cx="2479680" cy="1471320"/>
          </a:xfrm>
        </p:grpSpPr>
        <p:sp>
          <p:nvSpPr>
            <p:cNvPr id="633" name=""/>
            <p:cNvSpPr/>
            <p:nvPr/>
          </p:nvSpPr>
          <p:spPr>
            <a:xfrm>
              <a:off x="2700360" y="3051000"/>
              <a:ext cx="2479680" cy="1241640"/>
            </a:xfrm>
            <a:custGeom>
              <a:avLst/>
              <a:gdLst/>
              <a:ahLst/>
              <a:rect l="l" t="t" r="r" b="b"/>
              <a:pathLst>
                <a:path w="7557" h="3785">
                  <a:moveTo>
                    <a:pt x="3779" y="0"/>
                  </a:moveTo>
                  <a:lnTo>
                    <a:pt x="0" y="3785"/>
                  </a:lnTo>
                  <a:lnTo>
                    <a:pt x="7557" y="3785"/>
                  </a:lnTo>
                  <a:lnTo>
                    <a:pt x="3779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2711520" y="4278240"/>
              <a:ext cx="2463480" cy="244080"/>
              <a:chOff x="2711520" y="4278240"/>
              <a:chExt cx="2463480" cy="244080"/>
            </a:xfrm>
          </p:grpSpPr>
          <p:sp>
            <p:nvSpPr>
              <p:cNvPr id="635" name=""/>
              <p:cNvSpPr/>
              <p:nvPr/>
            </p:nvSpPr>
            <p:spPr>
              <a:xfrm>
                <a:off x="2711520" y="4278240"/>
                <a:ext cx="2457000" cy="237600"/>
              </a:xfrm>
              <a:prstGeom prst="rect">
                <a:avLst/>
              </a:prstGeom>
              <a:solidFill>
                <a:srgbClr val="666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718000" y="4284720"/>
                <a:ext cx="2457000" cy="237600"/>
              </a:xfrm>
              <a:prstGeom prst="rect">
                <a:avLst/>
              </a:prstGeom>
              <a:solidFill>
                <a:srgbClr val="000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715480" y="4280760"/>
                <a:ext cx="2457000" cy="2376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2747880" y="3070080"/>
              <a:ext cx="2392200" cy="1203120"/>
              <a:chOff x="2747880" y="3070080"/>
              <a:chExt cx="2392200" cy="1203120"/>
            </a:xfrm>
          </p:grpSpPr>
          <p:sp>
            <p:nvSpPr>
              <p:cNvPr id="639" name=""/>
              <p:cNvSpPr/>
              <p:nvPr/>
            </p:nvSpPr>
            <p:spPr>
              <a:xfrm>
                <a:off x="2747880" y="3070080"/>
                <a:ext cx="2385720" cy="1196640"/>
              </a:xfrm>
              <a:custGeom>
                <a:avLst/>
                <a:gdLst/>
                <a:ahLst/>
                <a:rect l="l" t="t" r="r" b="b"/>
                <a:pathLst>
                  <a:path w="7268" h="3641">
                    <a:moveTo>
                      <a:pt x="3634" y="0"/>
                    </a:moveTo>
                    <a:lnTo>
                      <a:pt x="0" y="3641"/>
                    </a:lnTo>
                    <a:lnTo>
                      <a:pt x="7268" y="3641"/>
                    </a:lnTo>
                    <a:lnTo>
                      <a:pt x="3634" y="0"/>
                    </a:lnTo>
                    <a:close/>
                  </a:path>
                </a:pathLst>
              </a:custGeom>
              <a:solidFill>
                <a:srgbClr val="7b7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755800" y="3077640"/>
                <a:ext cx="2384280" cy="1195560"/>
              </a:xfrm>
              <a:custGeom>
                <a:avLst/>
                <a:gdLst/>
                <a:ahLst/>
                <a:rect l="l" t="t" r="r" b="b"/>
                <a:pathLst>
                  <a:path w="7268" h="3641">
                    <a:moveTo>
                      <a:pt x="3634" y="0"/>
                    </a:moveTo>
                    <a:lnTo>
                      <a:pt x="0" y="3641"/>
                    </a:lnTo>
                    <a:lnTo>
                      <a:pt x="7268" y="3641"/>
                    </a:lnTo>
                    <a:lnTo>
                      <a:pt x="3634" y="0"/>
                    </a:lnTo>
                    <a:close/>
                  </a:path>
                </a:pathLst>
              </a:custGeom>
              <a:solidFill>
                <a:srgbClr val="1515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751840" y="3073680"/>
                <a:ext cx="2384280" cy="1195560"/>
              </a:xfrm>
              <a:custGeom>
                <a:avLst/>
                <a:gdLst/>
                <a:ahLst/>
                <a:rect l="l" t="t" r="r" b="b"/>
                <a:pathLst>
                  <a:path w="7269" h="3641">
                    <a:moveTo>
                      <a:pt x="3635" y="0"/>
                    </a:moveTo>
                    <a:lnTo>
                      <a:pt x="0" y="3641"/>
                    </a:lnTo>
                    <a:lnTo>
                      <a:pt x="7269" y="3641"/>
                    </a:lnTo>
                    <a:lnTo>
                      <a:pt x="3635" y="0"/>
                    </a:lnTo>
                    <a:close/>
                  </a:path>
                </a:pathLst>
              </a:custGeom>
              <a:solidFill>
                <a:srgbClr val="2323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2948040" y="3070080"/>
              <a:ext cx="1991880" cy="1001520"/>
              <a:chOff x="2948040" y="3070080"/>
              <a:chExt cx="1991880" cy="1001520"/>
            </a:xfrm>
          </p:grpSpPr>
          <p:sp>
            <p:nvSpPr>
              <p:cNvPr id="643" name=""/>
              <p:cNvSpPr/>
              <p:nvPr/>
            </p:nvSpPr>
            <p:spPr>
              <a:xfrm>
                <a:off x="2948040" y="3070080"/>
                <a:ext cx="1985400" cy="995040"/>
              </a:xfrm>
              <a:custGeom>
                <a:avLst/>
                <a:gdLst/>
                <a:ahLst/>
                <a:rect l="l" t="t" r="r" b="b"/>
                <a:pathLst>
                  <a:path w="6048" h="3029">
                    <a:moveTo>
                      <a:pt x="3024" y="0"/>
                    </a:moveTo>
                    <a:lnTo>
                      <a:pt x="0" y="3029"/>
                    </a:lnTo>
                    <a:lnTo>
                      <a:pt x="6048" y="3029"/>
                    </a:lnTo>
                    <a:lnTo>
                      <a:pt x="3024" y="0"/>
                    </a:lnTo>
                    <a:close/>
                  </a:path>
                </a:pathLst>
              </a:custGeom>
              <a:solidFill>
                <a:srgbClr val="bab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954520" y="3077640"/>
                <a:ext cx="1985400" cy="993960"/>
              </a:xfrm>
              <a:custGeom>
                <a:avLst/>
                <a:gdLst/>
                <a:ahLst/>
                <a:rect l="l" t="t" r="r" b="b"/>
                <a:pathLst>
                  <a:path w="6048" h="3029">
                    <a:moveTo>
                      <a:pt x="3024" y="0"/>
                    </a:moveTo>
                    <a:lnTo>
                      <a:pt x="0" y="3029"/>
                    </a:lnTo>
                    <a:lnTo>
                      <a:pt x="6048" y="3029"/>
                    </a:lnTo>
                    <a:lnTo>
                      <a:pt x="3024" y="0"/>
                    </a:lnTo>
                    <a:close/>
                  </a:path>
                </a:pathLst>
              </a:custGeom>
              <a:solidFill>
                <a:srgbClr val="545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951640" y="3073680"/>
                <a:ext cx="1985400" cy="993960"/>
              </a:xfrm>
              <a:custGeom>
                <a:avLst/>
                <a:gdLst/>
                <a:ahLst/>
                <a:rect l="l" t="t" r="r" b="b"/>
                <a:pathLst>
                  <a:path w="6048" h="3029">
                    <a:moveTo>
                      <a:pt x="3024" y="0"/>
                    </a:moveTo>
                    <a:lnTo>
                      <a:pt x="0" y="3029"/>
                    </a:lnTo>
                    <a:lnTo>
                      <a:pt x="6048" y="3029"/>
                    </a:lnTo>
                    <a:lnTo>
                      <a:pt x="3024" y="0"/>
                    </a:lnTo>
                    <a:close/>
                  </a:path>
                </a:pathLst>
              </a:custGeom>
              <a:solidFill>
                <a:srgbClr val="8c9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3147840" y="3070080"/>
              <a:ext cx="1593720" cy="803160"/>
              <a:chOff x="3147840" y="3070080"/>
              <a:chExt cx="1593720" cy="803160"/>
            </a:xfrm>
          </p:grpSpPr>
          <p:sp>
            <p:nvSpPr>
              <p:cNvPr id="647" name=""/>
              <p:cNvSpPr/>
              <p:nvPr/>
            </p:nvSpPr>
            <p:spPr>
              <a:xfrm>
                <a:off x="3147840" y="3070080"/>
                <a:ext cx="1585800" cy="795600"/>
              </a:xfrm>
              <a:custGeom>
                <a:avLst/>
                <a:gdLst/>
                <a:ahLst/>
                <a:rect l="l" t="t" r="r" b="b"/>
                <a:pathLst>
                  <a:path w="4836" h="2419">
                    <a:moveTo>
                      <a:pt x="2418" y="0"/>
                    </a:moveTo>
                    <a:lnTo>
                      <a:pt x="0" y="2419"/>
                    </a:lnTo>
                    <a:lnTo>
                      <a:pt x="4836" y="2419"/>
                    </a:lnTo>
                    <a:lnTo>
                      <a:pt x="2418" y="0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154320" y="3077640"/>
                <a:ext cx="1587240" cy="795600"/>
              </a:xfrm>
              <a:custGeom>
                <a:avLst/>
                <a:gdLst/>
                <a:ahLst/>
                <a:rect l="l" t="t" r="r" b="b"/>
                <a:pathLst>
                  <a:path w="4836" h="2419">
                    <a:moveTo>
                      <a:pt x="2418" y="0"/>
                    </a:moveTo>
                    <a:lnTo>
                      <a:pt x="0" y="2419"/>
                    </a:lnTo>
                    <a:lnTo>
                      <a:pt x="4836" y="2419"/>
                    </a:lnTo>
                    <a:lnTo>
                      <a:pt x="2418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150360" y="3073680"/>
                <a:ext cx="1587240" cy="795600"/>
              </a:xfrm>
              <a:custGeom>
                <a:avLst/>
                <a:gdLst/>
                <a:ahLst/>
                <a:rect l="l" t="t" r="r" b="b"/>
                <a:pathLst>
                  <a:path w="4835" h="2420">
                    <a:moveTo>
                      <a:pt x="2418" y="0"/>
                    </a:moveTo>
                    <a:lnTo>
                      <a:pt x="0" y="2420"/>
                    </a:lnTo>
                    <a:lnTo>
                      <a:pt x="4835" y="2420"/>
                    </a:lnTo>
                    <a:lnTo>
                      <a:pt x="2418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3543120" y="3270240"/>
              <a:ext cx="1198440" cy="603000"/>
              <a:chOff x="3543120" y="3270240"/>
              <a:chExt cx="1198440" cy="603000"/>
            </a:xfrm>
          </p:grpSpPr>
          <p:sp>
            <p:nvSpPr>
              <p:cNvPr id="651" name=""/>
              <p:cNvSpPr/>
              <p:nvPr/>
            </p:nvSpPr>
            <p:spPr>
              <a:xfrm>
                <a:off x="3543120" y="3270240"/>
                <a:ext cx="1190520" cy="595440"/>
              </a:xfrm>
              <a:custGeom>
                <a:avLst/>
                <a:gdLst/>
                <a:ahLst/>
                <a:rect l="l" t="t" r="r" b="b"/>
                <a:pathLst>
                  <a:path w="3631" h="1812">
                    <a:moveTo>
                      <a:pt x="1816" y="0"/>
                    </a:moveTo>
                    <a:lnTo>
                      <a:pt x="0" y="1812"/>
                    </a:lnTo>
                    <a:lnTo>
                      <a:pt x="3631" y="1812"/>
                    </a:lnTo>
                    <a:lnTo>
                      <a:pt x="1816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549600" y="3276720"/>
                <a:ext cx="1191960" cy="596520"/>
              </a:xfrm>
              <a:custGeom>
                <a:avLst/>
                <a:gdLst/>
                <a:ahLst/>
                <a:rect l="l" t="t" r="r" b="b"/>
                <a:pathLst>
                  <a:path w="3631" h="1812">
                    <a:moveTo>
                      <a:pt x="1816" y="0"/>
                    </a:moveTo>
                    <a:lnTo>
                      <a:pt x="0" y="1812"/>
                    </a:lnTo>
                    <a:lnTo>
                      <a:pt x="3631" y="1812"/>
                    </a:lnTo>
                    <a:lnTo>
                      <a:pt x="1816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545280" y="3273840"/>
                <a:ext cx="1192320" cy="595440"/>
              </a:xfrm>
              <a:custGeom>
                <a:avLst/>
                <a:gdLst/>
                <a:ahLst/>
                <a:rect l="l" t="t" r="r" b="b"/>
                <a:pathLst>
                  <a:path w="3630" h="1813">
                    <a:moveTo>
                      <a:pt x="1815" y="0"/>
                    </a:moveTo>
                    <a:lnTo>
                      <a:pt x="0" y="1813"/>
                    </a:lnTo>
                    <a:lnTo>
                      <a:pt x="3630" y="1813"/>
                    </a:lnTo>
                    <a:lnTo>
                      <a:pt x="18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3147840" y="3270240"/>
              <a:ext cx="1196640" cy="603000"/>
              <a:chOff x="3147840" y="3270240"/>
              <a:chExt cx="1196640" cy="603000"/>
            </a:xfrm>
          </p:grpSpPr>
          <p:sp>
            <p:nvSpPr>
              <p:cNvPr id="655" name=""/>
              <p:cNvSpPr/>
              <p:nvPr/>
            </p:nvSpPr>
            <p:spPr>
              <a:xfrm>
                <a:off x="3147840" y="3270240"/>
                <a:ext cx="1190160" cy="595440"/>
              </a:xfrm>
              <a:custGeom>
                <a:avLst/>
                <a:gdLst/>
                <a:ahLst/>
                <a:rect l="l" t="t" r="r" b="b"/>
                <a:pathLst>
                  <a:path w="3628" h="1812">
                    <a:moveTo>
                      <a:pt x="1814" y="0"/>
                    </a:moveTo>
                    <a:lnTo>
                      <a:pt x="0" y="1812"/>
                    </a:lnTo>
                    <a:lnTo>
                      <a:pt x="3628" y="1812"/>
                    </a:lnTo>
                    <a:lnTo>
                      <a:pt x="1814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154320" y="3276720"/>
                <a:ext cx="1190160" cy="596520"/>
              </a:xfrm>
              <a:custGeom>
                <a:avLst/>
                <a:gdLst/>
                <a:ahLst/>
                <a:rect l="l" t="t" r="r" b="b"/>
                <a:pathLst>
                  <a:path w="3628" h="1812">
                    <a:moveTo>
                      <a:pt x="1814" y="0"/>
                    </a:moveTo>
                    <a:lnTo>
                      <a:pt x="0" y="1812"/>
                    </a:lnTo>
                    <a:lnTo>
                      <a:pt x="3628" y="1812"/>
                    </a:lnTo>
                    <a:lnTo>
                      <a:pt x="1814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150360" y="3273840"/>
                <a:ext cx="1190160" cy="595440"/>
              </a:xfrm>
              <a:custGeom>
                <a:avLst/>
                <a:gdLst/>
                <a:ahLst/>
                <a:rect l="l" t="t" r="r" b="b"/>
                <a:pathLst>
                  <a:path w="3628" h="1813">
                    <a:moveTo>
                      <a:pt x="1814" y="0"/>
                    </a:moveTo>
                    <a:lnTo>
                      <a:pt x="0" y="1813"/>
                    </a:lnTo>
                    <a:lnTo>
                      <a:pt x="3628" y="1813"/>
                    </a:lnTo>
                    <a:lnTo>
                      <a:pt x="181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3741840" y="3368520"/>
              <a:ext cx="999720" cy="504720"/>
              <a:chOff x="3741840" y="3368520"/>
              <a:chExt cx="999720" cy="504720"/>
            </a:xfrm>
          </p:grpSpPr>
          <p:sp>
            <p:nvSpPr>
              <p:cNvPr id="659" name=""/>
              <p:cNvSpPr/>
              <p:nvPr/>
            </p:nvSpPr>
            <p:spPr>
              <a:xfrm>
                <a:off x="3741840" y="3368520"/>
                <a:ext cx="991800" cy="497160"/>
              </a:xfrm>
              <a:custGeom>
                <a:avLst/>
                <a:gdLst/>
                <a:ahLst/>
                <a:rect l="l" t="t" r="r" b="b"/>
                <a:pathLst>
                  <a:path w="3024" h="1513">
                    <a:moveTo>
                      <a:pt x="1512" y="0"/>
                    </a:moveTo>
                    <a:lnTo>
                      <a:pt x="0" y="1513"/>
                    </a:lnTo>
                    <a:lnTo>
                      <a:pt x="3024" y="1513"/>
                    </a:lnTo>
                    <a:lnTo>
                      <a:pt x="1512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749400" y="3375000"/>
                <a:ext cx="992160" cy="498240"/>
              </a:xfrm>
              <a:custGeom>
                <a:avLst/>
                <a:gdLst/>
                <a:ahLst/>
                <a:rect l="l" t="t" r="r" b="b"/>
                <a:pathLst>
                  <a:path w="3024" h="1513">
                    <a:moveTo>
                      <a:pt x="1512" y="0"/>
                    </a:moveTo>
                    <a:lnTo>
                      <a:pt x="0" y="1513"/>
                    </a:lnTo>
                    <a:lnTo>
                      <a:pt x="3024" y="1513"/>
                    </a:lnTo>
                    <a:lnTo>
                      <a:pt x="1512" y="0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5440" y="3372120"/>
                <a:ext cx="992160" cy="497160"/>
              </a:xfrm>
              <a:custGeom>
                <a:avLst/>
                <a:gdLst/>
                <a:ahLst/>
                <a:rect l="l" t="t" r="r" b="b"/>
                <a:pathLst>
                  <a:path w="3024" h="1513">
                    <a:moveTo>
                      <a:pt x="1512" y="0"/>
                    </a:moveTo>
                    <a:lnTo>
                      <a:pt x="0" y="1513"/>
                    </a:lnTo>
                    <a:lnTo>
                      <a:pt x="3024" y="1513"/>
                    </a:lnTo>
                    <a:lnTo>
                      <a:pt x="151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3149640" y="3368520"/>
              <a:ext cx="996480" cy="504720"/>
              <a:chOff x="3149640" y="3368520"/>
              <a:chExt cx="996480" cy="504720"/>
            </a:xfrm>
          </p:grpSpPr>
          <p:sp>
            <p:nvSpPr>
              <p:cNvPr id="663" name=""/>
              <p:cNvSpPr/>
              <p:nvPr/>
            </p:nvSpPr>
            <p:spPr>
              <a:xfrm>
                <a:off x="3149640" y="3368520"/>
                <a:ext cx="990000" cy="497160"/>
              </a:xfrm>
              <a:custGeom>
                <a:avLst/>
                <a:gdLst/>
                <a:ahLst/>
                <a:rect l="l" t="t" r="r" b="b"/>
                <a:pathLst>
                  <a:path w="3022" h="1513">
                    <a:moveTo>
                      <a:pt x="1511" y="0"/>
                    </a:moveTo>
                    <a:lnTo>
                      <a:pt x="0" y="1513"/>
                    </a:lnTo>
                    <a:lnTo>
                      <a:pt x="3022" y="1513"/>
                    </a:lnTo>
                    <a:lnTo>
                      <a:pt x="1511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156120" y="3375000"/>
                <a:ext cx="990000" cy="498240"/>
              </a:xfrm>
              <a:custGeom>
                <a:avLst/>
                <a:gdLst/>
                <a:ahLst/>
                <a:rect l="l" t="t" r="r" b="b"/>
                <a:pathLst>
                  <a:path w="3022" h="1513">
                    <a:moveTo>
                      <a:pt x="1511" y="0"/>
                    </a:moveTo>
                    <a:lnTo>
                      <a:pt x="0" y="1513"/>
                    </a:lnTo>
                    <a:lnTo>
                      <a:pt x="3022" y="1513"/>
                    </a:lnTo>
                    <a:lnTo>
                      <a:pt x="1511" y="0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152160" y="3372120"/>
                <a:ext cx="991440" cy="497160"/>
              </a:xfrm>
              <a:custGeom>
                <a:avLst/>
                <a:gdLst/>
                <a:ahLst/>
                <a:rect l="l" t="t" r="r" b="b"/>
                <a:pathLst>
                  <a:path w="3021" h="1513">
                    <a:moveTo>
                      <a:pt x="1511" y="0"/>
                    </a:moveTo>
                    <a:lnTo>
                      <a:pt x="0" y="1513"/>
                    </a:lnTo>
                    <a:lnTo>
                      <a:pt x="3021" y="1513"/>
                    </a:lnTo>
                    <a:lnTo>
                      <a:pt x="151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2747880" y="4289400"/>
              <a:ext cx="2398320" cy="222120"/>
              <a:chOff x="2747880" y="4289400"/>
              <a:chExt cx="2398320" cy="222120"/>
            </a:xfrm>
          </p:grpSpPr>
          <p:sp>
            <p:nvSpPr>
              <p:cNvPr id="667" name=""/>
              <p:cNvSpPr/>
              <p:nvPr/>
            </p:nvSpPr>
            <p:spPr>
              <a:xfrm>
                <a:off x="2747880" y="4289400"/>
                <a:ext cx="2391840" cy="213840"/>
              </a:xfrm>
              <a:prstGeom prst="rect">
                <a:avLst/>
              </a:prstGeom>
              <a:solidFill>
                <a:srgbClr val="666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754360" y="4295880"/>
                <a:ext cx="2391840" cy="215640"/>
              </a:xfrm>
              <a:prstGeom prst="rect">
                <a:avLst/>
              </a:prstGeom>
              <a:solidFill>
                <a:srgbClr val="000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751840" y="4293000"/>
                <a:ext cx="2390400" cy="2138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3743280" y="3470400"/>
              <a:ext cx="1195200" cy="601560"/>
              <a:chOff x="3743280" y="3470400"/>
              <a:chExt cx="1195200" cy="601560"/>
            </a:xfrm>
          </p:grpSpPr>
          <p:sp>
            <p:nvSpPr>
              <p:cNvPr id="671" name=""/>
              <p:cNvSpPr/>
              <p:nvPr/>
            </p:nvSpPr>
            <p:spPr>
              <a:xfrm>
                <a:off x="3743280" y="3470400"/>
                <a:ext cx="1188720" cy="595080"/>
              </a:xfrm>
              <a:custGeom>
                <a:avLst/>
                <a:gdLst/>
                <a:ahLst/>
                <a:rect l="l" t="t" r="r" b="b"/>
                <a:pathLst>
                  <a:path w="3621" h="1816">
                    <a:moveTo>
                      <a:pt x="1810" y="0"/>
                    </a:moveTo>
                    <a:lnTo>
                      <a:pt x="0" y="1816"/>
                    </a:lnTo>
                    <a:lnTo>
                      <a:pt x="3621" y="1816"/>
                    </a:lnTo>
                    <a:lnTo>
                      <a:pt x="1810" y="0"/>
                    </a:lnTo>
                    <a:close/>
                  </a:path>
                </a:pathLst>
              </a:custGeom>
              <a:solidFill>
                <a:srgbClr val="bab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750840" y="3476880"/>
                <a:ext cx="1187640" cy="595080"/>
              </a:xfrm>
              <a:custGeom>
                <a:avLst/>
                <a:gdLst/>
                <a:ahLst/>
                <a:rect l="l" t="t" r="r" b="b"/>
                <a:pathLst>
                  <a:path w="3621" h="1816">
                    <a:moveTo>
                      <a:pt x="1810" y="0"/>
                    </a:moveTo>
                    <a:lnTo>
                      <a:pt x="0" y="1816"/>
                    </a:lnTo>
                    <a:lnTo>
                      <a:pt x="3621" y="1816"/>
                    </a:lnTo>
                    <a:lnTo>
                      <a:pt x="1810" y="0"/>
                    </a:lnTo>
                    <a:close/>
                  </a:path>
                </a:pathLst>
              </a:custGeom>
              <a:solidFill>
                <a:srgbClr val="545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746880" y="3472920"/>
                <a:ext cx="1187640" cy="595080"/>
              </a:xfrm>
              <a:custGeom>
                <a:avLst/>
                <a:gdLst/>
                <a:ahLst/>
                <a:rect l="l" t="t" r="r" b="b"/>
                <a:pathLst>
                  <a:path w="3621" h="1815">
                    <a:moveTo>
                      <a:pt x="1810" y="0"/>
                    </a:moveTo>
                    <a:lnTo>
                      <a:pt x="0" y="1815"/>
                    </a:lnTo>
                    <a:lnTo>
                      <a:pt x="3621" y="1815"/>
                    </a:lnTo>
                    <a:lnTo>
                      <a:pt x="1810" y="0"/>
                    </a:lnTo>
                    <a:close/>
                  </a:path>
                </a:pathLst>
              </a:custGeom>
              <a:solidFill>
                <a:srgbClr val="8c9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4140360" y="3668760"/>
              <a:ext cx="798120" cy="402840"/>
              <a:chOff x="4140360" y="3668760"/>
              <a:chExt cx="798120" cy="402840"/>
            </a:xfrm>
          </p:grpSpPr>
          <p:sp>
            <p:nvSpPr>
              <p:cNvPr id="675" name=""/>
              <p:cNvSpPr/>
              <p:nvPr/>
            </p:nvSpPr>
            <p:spPr>
              <a:xfrm>
                <a:off x="4140360" y="3668760"/>
                <a:ext cx="791640" cy="396360"/>
              </a:xfrm>
              <a:custGeom>
                <a:avLst/>
                <a:gdLst/>
                <a:ahLst/>
                <a:rect l="l" t="t" r="r" b="b"/>
                <a:pathLst>
                  <a:path w="2413" h="1206">
                    <a:moveTo>
                      <a:pt x="1207" y="0"/>
                    </a:moveTo>
                    <a:lnTo>
                      <a:pt x="0" y="1206"/>
                    </a:lnTo>
                    <a:lnTo>
                      <a:pt x="2413" y="1206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a6a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146840" y="3675240"/>
                <a:ext cx="791640" cy="396360"/>
              </a:xfrm>
              <a:custGeom>
                <a:avLst/>
                <a:gdLst/>
                <a:ahLst/>
                <a:rect l="l" t="t" r="r" b="b"/>
                <a:pathLst>
                  <a:path w="2413" h="1206">
                    <a:moveTo>
                      <a:pt x="1207" y="0"/>
                    </a:moveTo>
                    <a:lnTo>
                      <a:pt x="0" y="1206"/>
                    </a:lnTo>
                    <a:lnTo>
                      <a:pt x="2413" y="1206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404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142880" y="3672360"/>
                <a:ext cx="791640" cy="395280"/>
              </a:xfrm>
              <a:custGeom>
                <a:avLst/>
                <a:gdLst/>
                <a:ahLst/>
                <a:rect l="l" t="t" r="r" b="b"/>
                <a:pathLst>
                  <a:path w="2412" h="1206">
                    <a:moveTo>
                      <a:pt x="1206" y="0"/>
                    </a:moveTo>
                    <a:lnTo>
                      <a:pt x="0" y="1206"/>
                    </a:lnTo>
                    <a:lnTo>
                      <a:pt x="2412" y="1206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6b71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2951280" y="3470400"/>
              <a:ext cx="1194840" cy="601560"/>
              <a:chOff x="2951280" y="3470400"/>
              <a:chExt cx="1194840" cy="601560"/>
            </a:xfrm>
          </p:grpSpPr>
          <p:sp>
            <p:nvSpPr>
              <p:cNvPr id="679" name=""/>
              <p:cNvSpPr/>
              <p:nvPr/>
            </p:nvSpPr>
            <p:spPr>
              <a:xfrm>
                <a:off x="2951280" y="3470400"/>
                <a:ext cx="1188360" cy="595080"/>
              </a:xfrm>
              <a:custGeom>
                <a:avLst/>
                <a:gdLst/>
                <a:ahLst/>
                <a:rect l="l" t="t" r="r" b="b"/>
                <a:pathLst>
                  <a:path w="3621" h="1816">
                    <a:moveTo>
                      <a:pt x="1810" y="0"/>
                    </a:moveTo>
                    <a:lnTo>
                      <a:pt x="0" y="1816"/>
                    </a:lnTo>
                    <a:lnTo>
                      <a:pt x="3621" y="1816"/>
                    </a:lnTo>
                    <a:lnTo>
                      <a:pt x="1810" y="0"/>
                    </a:lnTo>
                    <a:close/>
                  </a:path>
                </a:pathLst>
              </a:custGeom>
              <a:solidFill>
                <a:srgbClr val="bab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958840" y="3476880"/>
                <a:ext cx="1187280" cy="595080"/>
              </a:xfrm>
              <a:custGeom>
                <a:avLst/>
                <a:gdLst/>
                <a:ahLst/>
                <a:rect l="l" t="t" r="r" b="b"/>
                <a:pathLst>
                  <a:path w="3621" h="1816">
                    <a:moveTo>
                      <a:pt x="1810" y="0"/>
                    </a:moveTo>
                    <a:lnTo>
                      <a:pt x="0" y="1816"/>
                    </a:lnTo>
                    <a:lnTo>
                      <a:pt x="3621" y="1816"/>
                    </a:lnTo>
                    <a:lnTo>
                      <a:pt x="1810" y="0"/>
                    </a:lnTo>
                    <a:close/>
                  </a:path>
                </a:pathLst>
              </a:custGeom>
              <a:solidFill>
                <a:srgbClr val="545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954880" y="3472920"/>
                <a:ext cx="1187280" cy="595080"/>
              </a:xfrm>
              <a:custGeom>
                <a:avLst/>
                <a:gdLst/>
                <a:ahLst/>
                <a:rect l="l" t="t" r="r" b="b"/>
                <a:pathLst>
                  <a:path w="3621" h="1815">
                    <a:moveTo>
                      <a:pt x="1810" y="0"/>
                    </a:moveTo>
                    <a:lnTo>
                      <a:pt x="0" y="1815"/>
                    </a:lnTo>
                    <a:lnTo>
                      <a:pt x="3621" y="1815"/>
                    </a:lnTo>
                    <a:lnTo>
                      <a:pt x="1810" y="0"/>
                    </a:lnTo>
                    <a:close/>
                  </a:path>
                </a:pathLst>
              </a:custGeom>
              <a:solidFill>
                <a:srgbClr val="8c9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2948040" y="3668760"/>
              <a:ext cx="801360" cy="402840"/>
              <a:chOff x="2948040" y="3668760"/>
              <a:chExt cx="801360" cy="402840"/>
            </a:xfrm>
          </p:grpSpPr>
          <p:sp>
            <p:nvSpPr>
              <p:cNvPr id="683" name=""/>
              <p:cNvSpPr/>
              <p:nvPr/>
            </p:nvSpPr>
            <p:spPr>
              <a:xfrm>
                <a:off x="2948040" y="3668760"/>
                <a:ext cx="793800" cy="396360"/>
              </a:xfrm>
              <a:custGeom>
                <a:avLst/>
                <a:gdLst/>
                <a:ahLst/>
                <a:rect l="l" t="t" r="r" b="b"/>
                <a:pathLst>
                  <a:path w="2418" h="1206">
                    <a:moveTo>
                      <a:pt x="1209" y="0"/>
                    </a:moveTo>
                    <a:lnTo>
                      <a:pt x="0" y="1206"/>
                    </a:lnTo>
                    <a:lnTo>
                      <a:pt x="2418" y="1206"/>
                    </a:lnTo>
                    <a:lnTo>
                      <a:pt x="1209" y="0"/>
                    </a:lnTo>
                    <a:close/>
                  </a:path>
                </a:pathLst>
              </a:custGeom>
              <a:solidFill>
                <a:srgbClr val="a6a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954520" y="3675240"/>
                <a:ext cx="794880" cy="396360"/>
              </a:xfrm>
              <a:custGeom>
                <a:avLst/>
                <a:gdLst/>
                <a:ahLst/>
                <a:rect l="l" t="t" r="r" b="b"/>
                <a:pathLst>
                  <a:path w="2418" h="1206">
                    <a:moveTo>
                      <a:pt x="1209" y="0"/>
                    </a:moveTo>
                    <a:lnTo>
                      <a:pt x="0" y="1206"/>
                    </a:lnTo>
                    <a:lnTo>
                      <a:pt x="2418" y="1206"/>
                    </a:lnTo>
                    <a:lnTo>
                      <a:pt x="1209" y="0"/>
                    </a:lnTo>
                    <a:close/>
                  </a:path>
                </a:pathLst>
              </a:custGeom>
              <a:solidFill>
                <a:srgbClr val="404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951640" y="3672360"/>
                <a:ext cx="793800" cy="395280"/>
              </a:xfrm>
              <a:custGeom>
                <a:avLst/>
                <a:gdLst/>
                <a:ahLst/>
                <a:rect l="l" t="t" r="r" b="b"/>
                <a:pathLst>
                  <a:path w="2417" h="1206">
                    <a:moveTo>
                      <a:pt x="1208" y="0"/>
                    </a:moveTo>
                    <a:lnTo>
                      <a:pt x="0" y="1206"/>
                    </a:lnTo>
                    <a:lnTo>
                      <a:pt x="2417" y="1206"/>
                    </a:lnTo>
                    <a:lnTo>
                      <a:pt x="1208" y="0"/>
                    </a:lnTo>
                    <a:close/>
                  </a:path>
                </a:pathLst>
              </a:custGeom>
              <a:solidFill>
                <a:srgbClr val="6b71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3149640" y="3668760"/>
              <a:ext cx="796680" cy="402840"/>
              <a:chOff x="3149640" y="3668760"/>
              <a:chExt cx="796680" cy="402840"/>
            </a:xfrm>
          </p:grpSpPr>
          <p:sp>
            <p:nvSpPr>
              <p:cNvPr id="687" name=""/>
              <p:cNvSpPr/>
              <p:nvPr/>
            </p:nvSpPr>
            <p:spPr>
              <a:xfrm>
                <a:off x="3149640" y="3668760"/>
                <a:ext cx="790200" cy="396360"/>
              </a:xfrm>
              <a:custGeom>
                <a:avLst/>
                <a:gdLst/>
                <a:ahLst/>
                <a:rect l="l" t="t" r="r" b="b"/>
                <a:pathLst>
                  <a:path w="2408" h="1206">
                    <a:moveTo>
                      <a:pt x="1203" y="0"/>
                    </a:moveTo>
                    <a:lnTo>
                      <a:pt x="0" y="1206"/>
                    </a:lnTo>
                    <a:lnTo>
                      <a:pt x="2408" y="1206"/>
                    </a:lnTo>
                    <a:lnTo>
                      <a:pt x="1203" y="0"/>
                    </a:lnTo>
                    <a:close/>
                  </a:path>
                </a:pathLst>
              </a:custGeom>
              <a:solidFill>
                <a:srgbClr val="9ca1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156120" y="3675240"/>
                <a:ext cx="790200" cy="396360"/>
              </a:xfrm>
              <a:custGeom>
                <a:avLst/>
                <a:gdLst/>
                <a:ahLst/>
                <a:rect l="l" t="t" r="r" b="b"/>
                <a:pathLst>
                  <a:path w="2408" h="1206">
                    <a:moveTo>
                      <a:pt x="1203" y="0"/>
                    </a:moveTo>
                    <a:lnTo>
                      <a:pt x="0" y="1206"/>
                    </a:lnTo>
                    <a:lnTo>
                      <a:pt x="2408" y="1206"/>
                    </a:lnTo>
                    <a:lnTo>
                      <a:pt x="1203" y="0"/>
                    </a:lnTo>
                    <a:close/>
                  </a:path>
                </a:pathLst>
              </a:custGeom>
              <a:solidFill>
                <a:srgbClr val="363b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153240" y="3672360"/>
                <a:ext cx="790560" cy="395280"/>
              </a:xfrm>
              <a:custGeom>
                <a:avLst/>
                <a:gdLst/>
                <a:ahLst/>
                <a:rect l="l" t="t" r="r" b="b"/>
                <a:pathLst>
                  <a:path w="2409" h="1206">
                    <a:moveTo>
                      <a:pt x="1204" y="0"/>
                    </a:moveTo>
                    <a:lnTo>
                      <a:pt x="0" y="1206"/>
                    </a:lnTo>
                    <a:lnTo>
                      <a:pt x="2409" y="1206"/>
                    </a:lnTo>
                    <a:lnTo>
                      <a:pt x="1204" y="0"/>
                    </a:lnTo>
                    <a:close/>
                  </a:path>
                </a:pathLst>
              </a:custGeom>
              <a:solidFill>
                <a:srgbClr val="5b62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3940200" y="3668760"/>
              <a:ext cx="801360" cy="402840"/>
              <a:chOff x="3940200" y="3668760"/>
              <a:chExt cx="801360" cy="402840"/>
            </a:xfrm>
          </p:grpSpPr>
          <p:sp>
            <p:nvSpPr>
              <p:cNvPr id="691" name=""/>
              <p:cNvSpPr/>
              <p:nvPr/>
            </p:nvSpPr>
            <p:spPr>
              <a:xfrm>
                <a:off x="3940200" y="3668760"/>
                <a:ext cx="793440" cy="396360"/>
              </a:xfrm>
              <a:custGeom>
                <a:avLst/>
                <a:gdLst/>
                <a:ahLst/>
                <a:rect l="l" t="t" r="r" b="b"/>
                <a:pathLst>
                  <a:path w="2418" h="1206">
                    <a:moveTo>
                      <a:pt x="1209" y="0"/>
                    </a:moveTo>
                    <a:lnTo>
                      <a:pt x="0" y="1206"/>
                    </a:lnTo>
                    <a:lnTo>
                      <a:pt x="2418" y="1206"/>
                    </a:lnTo>
                    <a:lnTo>
                      <a:pt x="1209" y="0"/>
                    </a:lnTo>
                    <a:close/>
                  </a:path>
                </a:pathLst>
              </a:custGeom>
              <a:solidFill>
                <a:srgbClr val="9ca1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946680" y="3675240"/>
                <a:ext cx="794880" cy="396360"/>
              </a:xfrm>
              <a:custGeom>
                <a:avLst/>
                <a:gdLst/>
                <a:ahLst/>
                <a:rect l="l" t="t" r="r" b="b"/>
                <a:pathLst>
                  <a:path w="2418" h="1206">
                    <a:moveTo>
                      <a:pt x="1209" y="0"/>
                    </a:moveTo>
                    <a:lnTo>
                      <a:pt x="0" y="1206"/>
                    </a:lnTo>
                    <a:lnTo>
                      <a:pt x="2418" y="1206"/>
                    </a:lnTo>
                    <a:lnTo>
                      <a:pt x="1209" y="0"/>
                    </a:lnTo>
                    <a:close/>
                  </a:path>
                </a:pathLst>
              </a:custGeom>
              <a:solidFill>
                <a:srgbClr val="363b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943800" y="3672360"/>
                <a:ext cx="793800" cy="395280"/>
              </a:xfrm>
              <a:custGeom>
                <a:avLst/>
                <a:gdLst/>
                <a:ahLst/>
                <a:rect l="l" t="t" r="r" b="b"/>
                <a:pathLst>
                  <a:path w="2417" h="1206">
                    <a:moveTo>
                      <a:pt x="1208" y="0"/>
                    </a:moveTo>
                    <a:lnTo>
                      <a:pt x="0" y="1206"/>
                    </a:lnTo>
                    <a:lnTo>
                      <a:pt x="2417" y="1206"/>
                    </a:lnTo>
                    <a:lnTo>
                      <a:pt x="1208" y="0"/>
                    </a:lnTo>
                    <a:close/>
                  </a:path>
                </a:pathLst>
              </a:custGeom>
              <a:solidFill>
                <a:srgbClr val="5b62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2700360" y="3051000"/>
              <a:ext cx="2479680" cy="1241640"/>
            </a:xfrm>
            <a:custGeom>
              <a:avLst/>
              <a:gdLst/>
              <a:ahLst/>
              <a:rect l="l" t="t" r="r" b="b"/>
              <a:pathLst>
                <a:path w="7557" h="3785">
                  <a:moveTo>
                    <a:pt x="3779" y="0"/>
                  </a:moveTo>
                  <a:lnTo>
                    <a:pt x="0" y="3785"/>
                  </a:lnTo>
                  <a:lnTo>
                    <a:pt x="7557" y="3785"/>
                  </a:lnTo>
                  <a:lnTo>
                    <a:pt x="37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2711520" y="4278240"/>
              <a:ext cx="2463480" cy="244080"/>
              <a:chOff x="2711520" y="4278240"/>
              <a:chExt cx="2463480" cy="244080"/>
            </a:xfrm>
          </p:grpSpPr>
          <p:sp>
            <p:nvSpPr>
              <p:cNvPr id="696" name=""/>
              <p:cNvSpPr/>
              <p:nvPr/>
            </p:nvSpPr>
            <p:spPr>
              <a:xfrm>
                <a:off x="2711520" y="4278240"/>
                <a:ext cx="2457000" cy="23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718000" y="4284720"/>
                <a:ext cx="2457000" cy="23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715480" y="4280760"/>
                <a:ext cx="2457000" cy="23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2747880" y="3070080"/>
              <a:ext cx="2392200" cy="1203120"/>
              <a:chOff x="2747880" y="3070080"/>
              <a:chExt cx="2392200" cy="1203120"/>
            </a:xfrm>
          </p:grpSpPr>
          <p:sp>
            <p:nvSpPr>
              <p:cNvPr id="700" name=""/>
              <p:cNvSpPr/>
              <p:nvPr/>
            </p:nvSpPr>
            <p:spPr>
              <a:xfrm>
                <a:off x="2747880" y="3070080"/>
                <a:ext cx="2385720" cy="1196640"/>
              </a:xfrm>
              <a:custGeom>
                <a:avLst/>
                <a:gdLst/>
                <a:ahLst/>
                <a:rect l="l" t="t" r="r" b="b"/>
                <a:pathLst>
                  <a:path w="7268" h="3641">
                    <a:moveTo>
                      <a:pt x="3634" y="0"/>
                    </a:moveTo>
                    <a:lnTo>
                      <a:pt x="0" y="3641"/>
                    </a:lnTo>
                    <a:lnTo>
                      <a:pt x="7268" y="3641"/>
                    </a:lnTo>
                    <a:lnTo>
                      <a:pt x="3634" y="0"/>
                    </a:lnTo>
                    <a:close/>
                  </a:path>
                </a:pathLst>
              </a:custGeom>
              <a:solidFill>
                <a:srgbClr val="7b7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755800" y="3077640"/>
                <a:ext cx="2384280" cy="1195560"/>
              </a:xfrm>
              <a:custGeom>
                <a:avLst/>
                <a:gdLst/>
                <a:ahLst/>
                <a:rect l="l" t="t" r="r" b="b"/>
                <a:pathLst>
                  <a:path w="7268" h="3641">
                    <a:moveTo>
                      <a:pt x="3634" y="0"/>
                    </a:moveTo>
                    <a:lnTo>
                      <a:pt x="0" y="3641"/>
                    </a:lnTo>
                    <a:lnTo>
                      <a:pt x="7268" y="3641"/>
                    </a:lnTo>
                    <a:lnTo>
                      <a:pt x="3634" y="0"/>
                    </a:lnTo>
                    <a:close/>
                  </a:path>
                </a:pathLst>
              </a:custGeom>
              <a:solidFill>
                <a:srgbClr val="1515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751840" y="3073680"/>
                <a:ext cx="2384280" cy="1195560"/>
              </a:xfrm>
              <a:custGeom>
                <a:avLst/>
                <a:gdLst/>
                <a:ahLst/>
                <a:rect l="l" t="t" r="r" b="b"/>
                <a:pathLst>
                  <a:path w="7269" h="3641">
                    <a:moveTo>
                      <a:pt x="3635" y="0"/>
                    </a:moveTo>
                    <a:lnTo>
                      <a:pt x="0" y="3641"/>
                    </a:lnTo>
                    <a:lnTo>
                      <a:pt x="7269" y="3641"/>
                    </a:lnTo>
                    <a:lnTo>
                      <a:pt x="3635" y="0"/>
                    </a:lnTo>
                    <a:close/>
                  </a:path>
                </a:pathLst>
              </a:custGeom>
              <a:solidFill>
                <a:srgbClr val="2323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2948040" y="3070080"/>
              <a:ext cx="1991880" cy="1001520"/>
              <a:chOff x="2948040" y="3070080"/>
              <a:chExt cx="1991880" cy="1001520"/>
            </a:xfrm>
          </p:grpSpPr>
          <p:sp>
            <p:nvSpPr>
              <p:cNvPr id="704" name=""/>
              <p:cNvSpPr/>
              <p:nvPr/>
            </p:nvSpPr>
            <p:spPr>
              <a:xfrm>
                <a:off x="2948040" y="3070080"/>
                <a:ext cx="1985400" cy="995040"/>
              </a:xfrm>
              <a:custGeom>
                <a:avLst/>
                <a:gdLst/>
                <a:ahLst/>
                <a:rect l="l" t="t" r="r" b="b"/>
                <a:pathLst>
                  <a:path w="6048" h="3029">
                    <a:moveTo>
                      <a:pt x="3024" y="0"/>
                    </a:moveTo>
                    <a:lnTo>
                      <a:pt x="0" y="3029"/>
                    </a:lnTo>
                    <a:lnTo>
                      <a:pt x="6048" y="3029"/>
                    </a:lnTo>
                    <a:lnTo>
                      <a:pt x="3024" y="0"/>
                    </a:lnTo>
                    <a:close/>
                  </a:path>
                </a:pathLst>
              </a:custGeom>
              <a:solidFill>
                <a:srgbClr val="bab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954520" y="3077640"/>
                <a:ext cx="1985400" cy="993960"/>
              </a:xfrm>
              <a:custGeom>
                <a:avLst/>
                <a:gdLst/>
                <a:ahLst/>
                <a:rect l="l" t="t" r="r" b="b"/>
                <a:pathLst>
                  <a:path w="6048" h="3029">
                    <a:moveTo>
                      <a:pt x="3024" y="0"/>
                    </a:moveTo>
                    <a:lnTo>
                      <a:pt x="0" y="3029"/>
                    </a:lnTo>
                    <a:lnTo>
                      <a:pt x="6048" y="3029"/>
                    </a:lnTo>
                    <a:lnTo>
                      <a:pt x="3024" y="0"/>
                    </a:lnTo>
                    <a:close/>
                  </a:path>
                </a:pathLst>
              </a:custGeom>
              <a:solidFill>
                <a:srgbClr val="545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951640" y="3073680"/>
                <a:ext cx="1985400" cy="993960"/>
              </a:xfrm>
              <a:custGeom>
                <a:avLst/>
                <a:gdLst/>
                <a:ahLst/>
                <a:rect l="l" t="t" r="r" b="b"/>
                <a:pathLst>
                  <a:path w="6048" h="3029">
                    <a:moveTo>
                      <a:pt x="3024" y="0"/>
                    </a:moveTo>
                    <a:lnTo>
                      <a:pt x="0" y="3029"/>
                    </a:lnTo>
                    <a:lnTo>
                      <a:pt x="6048" y="3029"/>
                    </a:lnTo>
                    <a:lnTo>
                      <a:pt x="3024" y="0"/>
                    </a:lnTo>
                    <a:close/>
                  </a:path>
                </a:pathLst>
              </a:custGeom>
              <a:solidFill>
                <a:srgbClr val="8c9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3147840" y="3070080"/>
              <a:ext cx="1593720" cy="803160"/>
              <a:chOff x="3147840" y="3070080"/>
              <a:chExt cx="1593720" cy="803160"/>
            </a:xfrm>
          </p:grpSpPr>
          <p:sp>
            <p:nvSpPr>
              <p:cNvPr id="708" name=""/>
              <p:cNvSpPr/>
              <p:nvPr/>
            </p:nvSpPr>
            <p:spPr>
              <a:xfrm>
                <a:off x="3147840" y="3070080"/>
                <a:ext cx="1585800" cy="795600"/>
              </a:xfrm>
              <a:custGeom>
                <a:avLst/>
                <a:gdLst/>
                <a:ahLst/>
                <a:rect l="l" t="t" r="r" b="b"/>
                <a:pathLst>
                  <a:path w="4836" h="2419">
                    <a:moveTo>
                      <a:pt x="2418" y="0"/>
                    </a:moveTo>
                    <a:lnTo>
                      <a:pt x="0" y="2419"/>
                    </a:lnTo>
                    <a:lnTo>
                      <a:pt x="4836" y="2419"/>
                    </a:lnTo>
                    <a:lnTo>
                      <a:pt x="2418" y="0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154320" y="3077640"/>
                <a:ext cx="1587240" cy="795600"/>
              </a:xfrm>
              <a:custGeom>
                <a:avLst/>
                <a:gdLst/>
                <a:ahLst/>
                <a:rect l="l" t="t" r="r" b="b"/>
                <a:pathLst>
                  <a:path w="4836" h="2419">
                    <a:moveTo>
                      <a:pt x="2418" y="0"/>
                    </a:moveTo>
                    <a:lnTo>
                      <a:pt x="0" y="2419"/>
                    </a:lnTo>
                    <a:lnTo>
                      <a:pt x="4836" y="2419"/>
                    </a:lnTo>
                    <a:lnTo>
                      <a:pt x="2418" y="0"/>
                    </a:lnTo>
                    <a:close/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150360" y="3073680"/>
                <a:ext cx="1587240" cy="795600"/>
              </a:xfrm>
              <a:custGeom>
                <a:avLst/>
                <a:gdLst/>
                <a:ahLst/>
                <a:rect l="l" t="t" r="r" b="b"/>
                <a:pathLst>
                  <a:path w="4835" h="2420">
                    <a:moveTo>
                      <a:pt x="2418" y="0"/>
                    </a:moveTo>
                    <a:lnTo>
                      <a:pt x="0" y="2420"/>
                    </a:lnTo>
                    <a:lnTo>
                      <a:pt x="4835" y="2420"/>
                    </a:lnTo>
                    <a:lnTo>
                      <a:pt x="2418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3543120" y="3270240"/>
              <a:ext cx="1198440" cy="603000"/>
              <a:chOff x="3543120" y="3270240"/>
              <a:chExt cx="1198440" cy="603000"/>
            </a:xfrm>
          </p:grpSpPr>
          <p:sp>
            <p:nvSpPr>
              <p:cNvPr id="712" name=""/>
              <p:cNvSpPr/>
              <p:nvPr/>
            </p:nvSpPr>
            <p:spPr>
              <a:xfrm>
                <a:off x="3543120" y="3270240"/>
                <a:ext cx="1190520" cy="595440"/>
              </a:xfrm>
              <a:custGeom>
                <a:avLst/>
                <a:gdLst/>
                <a:ahLst/>
                <a:rect l="l" t="t" r="r" b="b"/>
                <a:pathLst>
                  <a:path w="3631" h="1812">
                    <a:moveTo>
                      <a:pt x="1816" y="0"/>
                    </a:moveTo>
                    <a:lnTo>
                      <a:pt x="0" y="1812"/>
                    </a:lnTo>
                    <a:lnTo>
                      <a:pt x="3631" y="1812"/>
                    </a:lnTo>
                    <a:lnTo>
                      <a:pt x="1816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549600" y="3276720"/>
                <a:ext cx="1191960" cy="596520"/>
              </a:xfrm>
              <a:custGeom>
                <a:avLst/>
                <a:gdLst/>
                <a:ahLst/>
                <a:rect l="l" t="t" r="r" b="b"/>
                <a:pathLst>
                  <a:path w="3631" h="1812">
                    <a:moveTo>
                      <a:pt x="1816" y="0"/>
                    </a:moveTo>
                    <a:lnTo>
                      <a:pt x="0" y="1812"/>
                    </a:lnTo>
                    <a:lnTo>
                      <a:pt x="3631" y="1812"/>
                    </a:lnTo>
                    <a:lnTo>
                      <a:pt x="1816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545280" y="3273840"/>
                <a:ext cx="1192320" cy="595440"/>
              </a:xfrm>
              <a:custGeom>
                <a:avLst/>
                <a:gdLst/>
                <a:ahLst/>
                <a:rect l="l" t="t" r="r" b="b"/>
                <a:pathLst>
                  <a:path w="3630" h="1813">
                    <a:moveTo>
                      <a:pt x="1815" y="0"/>
                    </a:moveTo>
                    <a:lnTo>
                      <a:pt x="0" y="1813"/>
                    </a:lnTo>
                    <a:lnTo>
                      <a:pt x="3630" y="1813"/>
                    </a:lnTo>
                    <a:lnTo>
                      <a:pt x="18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3147840" y="3270240"/>
              <a:ext cx="1196640" cy="603000"/>
              <a:chOff x="3147840" y="3270240"/>
              <a:chExt cx="1196640" cy="603000"/>
            </a:xfrm>
          </p:grpSpPr>
          <p:sp>
            <p:nvSpPr>
              <p:cNvPr id="716" name=""/>
              <p:cNvSpPr/>
              <p:nvPr/>
            </p:nvSpPr>
            <p:spPr>
              <a:xfrm>
                <a:off x="3147840" y="3270240"/>
                <a:ext cx="1190160" cy="595440"/>
              </a:xfrm>
              <a:custGeom>
                <a:avLst/>
                <a:gdLst/>
                <a:ahLst/>
                <a:rect l="l" t="t" r="r" b="b"/>
                <a:pathLst>
                  <a:path w="3628" h="1812">
                    <a:moveTo>
                      <a:pt x="1814" y="0"/>
                    </a:moveTo>
                    <a:lnTo>
                      <a:pt x="0" y="1812"/>
                    </a:lnTo>
                    <a:lnTo>
                      <a:pt x="3628" y="1812"/>
                    </a:lnTo>
                    <a:lnTo>
                      <a:pt x="1814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154320" y="3276720"/>
                <a:ext cx="1190160" cy="596520"/>
              </a:xfrm>
              <a:custGeom>
                <a:avLst/>
                <a:gdLst/>
                <a:ahLst/>
                <a:rect l="l" t="t" r="r" b="b"/>
                <a:pathLst>
                  <a:path w="3628" h="1812">
                    <a:moveTo>
                      <a:pt x="1814" y="0"/>
                    </a:moveTo>
                    <a:lnTo>
                      <a:pt x="0" y="1812"/>
                    </a:lnTo>
                    <a:lnTo>
                      <a:pt x="3628" y="1812"/>
                    </a:lnTo>
                    <a:lnTo>
                      <a:pt x="1814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150360" y="3273840"/>
                <a:ext cx="1190160" cy="595440"/>
              </a:xfrm>
              <a:custGeom>
                <a:avLst/>
                <a:gdLst/>
                <a:ahLst/>
                <a:rect l="l" t="t" r="r" b="b"/>
                <a:pathLst>
                  <a:path w="3628" h="1813">
                    <a:moveTo>
                      <a:pt x="1814" y="0"/>
                    </a:moveTo>
                    <a:lnTo>
                      <a:pt x="0" y="1813"/>
                    </a:lnTo>
                    <a:lnTo>
                      <a:pt x="3628" y="1813"/>
                    </a:lnTo>
                    <a:lnTo>
                      <a:pt x="181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3741840" y="3368520"/>
              <a:ext cx="999720" cy="504720"/>
              <a:chOff x="3741840" y="3368520"/>
              <a:chExt cx="999720" cy="504720"/>
            </a:xfrm>
          </p:grpSpPr>
          <p:sp>
            <p:nvSpPr>
              <p:cNvPr id="720" name=""/>
              <p:cNvSpPr/>
              <p:nvPr/>
            </p:nvSpPr>
            <p:spPr>
              <a:xfrm>
                <a:off x="3741840" y="3368520"/>
                <a:ext cx="991800" cy="497160"/>
              </a:xfrm>
              <a:custGeom>
                <a:avLst/>
                <a:gdLst/>
                <a:ahLst/>
                <a:rect l="l" t="t" r="r" b="b"/>
                <a:pathLst>
                  <a:path w="3024" h="1513">
                    <a:moveTo>
                      <a:pt x="1512" y="0"/>
                    </a:moveTo>
                    <a:lnTo>
                      <a:pt x="0" y="1513"/>
                    </a:lnTo>
                    <a:lnTo>
                      <a:pt x="3024" y="1513"/>
                    </a:lnTo>
                    <a:lnTo>
                      <a:pt x="1512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749400" y="3375000"/>
                <a:ext cx="992160" cy="498240"/>
              </a:xfrm>
              <a:custGeom>
                <a:avLst/>
                <a:gdLst/>
                <a:ahLst/>
                <a:rect l="l" t="t" r="r" b="b"/>
                <a:pathLst>
                  <a:path w="3024" h="1513">
                    <a:moveTo>
                      <a:pt x="1512" y="0"/>
                    </a:moveTo>
                    <a:lnTo>
                      <a:pt x="0" y="1513"/>
                    </a:lnTo>
                    <a:lnTo>
                      <a:pt x="3024" y="1513"/>
                    </a:lnTo>
                    <a:lnTo>
                      <a:pt x="1512" y="0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45440" y="3372120"/>
                <a:ext cx="992160" cy="497160"/>
              </a:xfrm>
              <a:custGeom>
                <a:avLst/>
                <a:gdLst/>
                <a:ahLst/>
                <a:rect l="l" t="t" r="r" b="b"/>
                <a:pathLst>
                  <a:path w="3024" h="1513">
                    <a:moveTo>
                      <a:pt x="1512" y="0"/>
                    </a:moveTo>
                    <a:lnTo>
                      <a:pt x="0" y="1513"/>
                    </a:lnTo>
                    <a:lnTo>
                      <a:pt x="3024" y="1513"/>
                    </a:lnTo>
                    <a:lnTo>
                      <a:pt x="151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3149640" y="3368520"/>
              <a:ext cx="996480" cy="504720"/>
              <a:chOff x="3149640" y="3368520"/>
              <a:chExt cx="996480" cy="504720"/>
            </a:xfrm>
          </p:grpSpPr>
          <p:sp>
            <p:nvSpPr>
              <p:cNvPr id="724" name=""/>
              <p:cNvSpPr/>
              <p:nvPr/>
            </p:nvSpPr>
            <p:spPr>
              <a:xfrm>
                <a:off x="3149640" y="3368520"/>
                <a:ext cx="990000" cy="497160"/>
              </a:xfrm>
              <a:custGeom>
                <a:avLst/>
                <a:gdLst/>
                <a:ahLst/>
                <a:rect l="l" t="t" r="r" b="b"/>
                <a:pathLst>
                  <a:path w="3022" h="1513">
                    <a:moveTo>
                      <a:pt x="1511" y="0"/>
                    </a:moveTo>
                    <a:lnTo>
                      <a:pt x="0" y="1513"/>
                    </a:lnTo>
                    <a:lnTo>
                      <a:pt x="3022" y="1513"/>
                    </a:lnTo>
                    <a:lnTo>
                      <a:pt x="1511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156120" y="3375000"/>
                <a:ext cx="990000" cy="498240"/>
              </a:xfrm>
              <a:custGeom>
                <a:avLst/>
                <a:gdLst/>
                <a:ahLst/>
                <a:rect l="l" t="t" r="r" b="b"/>
                <a:pathLst>
                  <a:path w="3022" h="1513">
                    <a:moveTo>
                      <a:pt x="1511" y="0"/>
                    </a:moveTo>
                    <a:lnTo>
                      <a:pt x="0" y="1513"/>
                    </a:lnTo>
                    <a:lnTo>
                      <a:pt x="3022" y="1513"/>
                    </a:lnTo>
                    <a:lnTo>
                      <a:pt x="1511" y="0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152160" y="3372120"/>
                <a:ext cx="991440" cy="497160"/>
              </a:xfrm>
              <a:custGeom>
                <a:avLst/>
                <a:gdLst/>
                <a:ahLst/>
                <a:rect l="l" t="t" r="r" b="b"/>
                <a:pathLst>
                  <a:path w="3021" h="1513">
                    <a:moveTo>
                      <a:pt x="1511" y="0"/>
                    </a:moveTo>
                    <a:lnTo>
                      <a:pt x="0" y="1513"/>
                    </a:lnTo>
                    <a:lnTo>
                      <a:pt x="3021" y="1513"/>
                    </a:lnTo>
                    <a:lnTo>
                      <a:pt x="151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2728800" y="4280040"/>
              <a:ext cx="2425320" cy="231120"/>
              <a:chOff x="2728800" y="4280040"/>
              <a:chExt cx="2425320" cy="231120"/>
            </a:xfrm>
          </p:grpSpPr>
          <p:sp>
            <p:nvSpPr>
              <p:cNvPr id="728" name=""/>
              <p:cNvSpPr/>
              <p:nvPr/>
            </p:nvSpPr>
            <p:spPr>
              <a:xfrm>
                <a:off x="2728800" y="4280040"/>
                <a:ext cx="2418840" cy="222840"/>
              </a:xfrm>
              <a:prstGeom prst="rect">
                <a:avLst/>
              </a:prstGeom>
              <a:solidFill>
                <a:srgbClr val="666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735280" y="4286520"/>
                <a:ext cx="2418840" cy="224640"/>
              </a:xfrm>
              <a:prstGeom prst="rect">
                <a:avLst/>
              </a:prstGeom>
              <a:solidFill>
                <a:srgbClr val="000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732760" y="4284000"/>
                <a:ext cx="2417400" cy="2228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3743280" y="3470400"/>
              <a:ext cx="1195200" cy="601560"/>
              <a:chOff x="3743280" y="3470400"/>
              <a:chExt cx="1195200" cy="601560"/>
            </a:xfrm>
          </p:grpSpPr>
          <p:sp>
            <p:nvSpPr>
              <p:cNvPr id="732" name=""/>
              <p:cNvSpPr/>
              <p:nvPr/>
            </p:nvSpPr>
            <p:spPr>
              <a:xfrm>
                <a:off x="3743280" y="3470400"/>
                <a:ext cx="1188720" cy="595080"/>
              </a:xfrm>
              <a:custGeom>
                <a:avLst/>
                <a:gdLst/>
                <a:ahLst/>
                <a:rect l="l" t="t" r="r" b="b"/>
                <a:pathLst>
                  <a:path w="3621" h="1816">
                    <a:moveTo>
                      <a:pt x="1810" y="0"/>
                    </a:moveTo>
                    <a:lnTo>
                      <a:pt x="0" y="1816"/>
                    </a:lnTo>
                    <a:lnTo>
                      <a:pt x="3621" y="1816"/>
                    </a:lnTo>
                    <a:lnTo>
                      <a:pt x="1810" y="0"/>
                    </a:lnTo>
                    <a:close/>
                  </a:path>
                </a:pathLst>
              </a:custGeom>
              <a:solidFill>
                <a:srgbClr val="bab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750840" y="3476880"/>
                <a:ext cx="1187640" cy="595080"/>
              </a:xfrm>
              <a:custGeom>
                <a:avLst/>
                <a:gdLst/>
                <a:ahLst/>
                <a:rect l="l" t="t" r="r" b="b"/>
                <a:pathLst>
                  <a:path w="3621" h="1816">
                    <a:moveTo>
                      <a:pt x="1810" y="0"/>
                    </a:moveTo>
                    <a:lnTo>
                      <a:pt x="0" y="1816"/>
                    </a:lnTo>
                    <a:lnTo>
                      <a:pt x="3621" y="1816"/>
                    </a:lnTo>
                    <a:lnTo>
                      <a:pt x="1810" y="0"/>
                    </a:lnTo>
                    <a:close/>
                  </a:path>
                </a:pathLst>
              </a:custGeom>
              <a:solidFill>
                <a:srgbClr val="545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746880" y="3472920"/>
                <a:ext cx="1187640" cy="595080"/>
              </a:xfrm>
              <a:custGeom>
                <a:avLst/>
                <a:gdLst/>
                <a:ahLst/>
                <a:rect l="l" t="t" r="r" b="b"/>
                <a:pathLst>
                  <a:path w="3621" h="1815">
                    <a:moveTo>
                      <a:pt x="1810" y="0"/>
                    </a:moveTo>
                    <a:lnTo>
                      <a:pt x="0" y="1815"/>
                    </a:lnTo>
                    <a:lnTo>
                      <a:pt x="3621" y="1815"/>
                    </a:lnTo>
                    <a:lnTo>
                      <a:pt x="1810" y="0"/>
                    </a:lnTo>
                    <a:close/>
                  </a:path>
                </a:pathLst>
              </a:custGeom>
              <a:solidFill>
                <a:srgbClr val="8c9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4140360" y="3668760"/>
              <a:ext cx="798120" cy="402840"/>
              <a:chOff x="4140360" y="3668760"/>
              <a:chExt cx="798120" cy="402840"/>
            </a:xfrm>
          </p:grpSpPr>
          <p:sp>
            <p:nvSpPr>
              <p:cNvPr id="736" name=""/>
              <p:cNvSpPr/>
              <p:nvPr/>
            </p:nvSpPr>
            <p:spPr>
              <a:xfrm>
                <a:off x="4140360" y="3668760"/>
                <a:ext cx="791640" cy="396360"/>
              </a:xfrm>
              <a:custGeom>
                <a:avLst/>
                <a:gdLst/>
                <a:ahLst/>
                <a:rect l="l" t="t" r="r" b="b"/>
                <a:pathLst>
                  <a:path w="2413" h="1206">
                    <a:moveTo>
                      <a:pt x="1207" y="0"/>
                    </a:moveTo>
                    <a:lnTo>
                      <a:pt x="0" y="1206"/>
                    </a:lnTo>
                    <a:lnTo>
                      <a:pt x="2413" y="1206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a6a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146840" y="3675240"/>
                <a:ext cx="791640" cy="396360"/>
              </a:xfrm>
              <a:custGeom>
                <a:avLst/>
                <a:gdLst/>
                <a:ahLst/>
                <a:rect l="l" t="t" r="r" b="b"/>
                <a:pathLst>
                  <a:path w="2413" h="1206">
                    <a:moveTo>
                      <a:pt x="1207" y="0"/>
                    </a:moveTo>
                    <a:lnTo>
                      <a:pt x="0" y="1206"/>
                    </a:lnTo>
                    <a:lnTo>
                      <a:pt x="2413" y="1206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404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142880" y="3672360"/>
                <a:ext cx="791640" cy="395280"/>
              </a:xfrm>
              <a:custGeom>
                <a:avLst/>
                <a:gdLst/>
                <a:ahLst/>
                <a:rect l="l" t="t" r="r" b="b"/>
                <a:pathLst>
                  <a:path w="2412" h="1206">
                    <a:moveTo>
                      <a:pt x="1206" y="0"/>
                    </a:moveTo>
                    <a:lnTo>
                      <a:pt x="0" y="1206"/>
                    </a:lnTo>
                    <a:lnTo>
                      <a:pt x="2412" y="1206"/>
                    </a:lnTo>
                    <a:lnTo>
                      <a:pt x="1206" y="0"/>
                    </a:lnTo>
                    <a:close/>
                  </a:path>
                </a:pathLst>
              </a:custGeom>
              <a:solidFill>
                <a:srgbClr val="6b71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2951280" y="3470400"/>
              <a:ext cx="1194840" cy="601560"/>
              <a:chOff x="2951280" y="3470400"/>
              <a:chExt cx="1194840" cy="601560"/>
            </a:xfrm>
          </p:grpSpPr>
          <p:sp>
            <p:nvSpPr>
              <p:cNvPr id="740" name=""/>
              <p:cNvSpPr/>
              <p:nvPr/>
            </p:nvSpPr>
            <p:spPr>
              <a:xfrm>
                <a:off x="2951280" y="3470400"/>
                <a:ext cx="1188360" cy="595080"/>
              </a:xfrm>
              <a:custGeom>
                <a:avLst/>
                <a:gdLst/>
                <a:ahLst/>
                <a:rect l="l" t="t" r="r" b="b"/>
                <a:pathLst>
                  <a:path w="3621" h="1816">
                    <a:moveTo>
                      <a:pt x="1810" y="0"/>
                    </a:moveTo>
                    <a:lnTo>
                      <a:pt x="0" y="1816"/>
                    </a:lnTo>
                    <a:lnTo>
                      <a:pt x="3621" y="1816"/>
                    </a:lnTo>
                    <a:lnTo>
                      <a:pt x="1810" y="0"/>
                    </a:lnTo>
                    <a:close/>
                  </a:path>
                </a:pathLst>
              </a:custGeom>
              <a:solidFill>
                <a:srgbClr val="bab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958840" y="3476880"/>
                <a:ext cx="1187280" cy="595080"/>
              </a:xfrm>
              <a:custGeom>
                <a:avLst/>
                <a:gdLst/>
                <a:ahLst/>
                <a:rect l="l" t="t" r="r" b="b"/>
                <a:pathLst>
                  <a:path w="3621" h="1816">
                    <a:moveTo>
                      <a:pt x="1810" y="0"/>
                    </a:moveTo>
                    <a:lnTo>
                      <a:pt x="0" y="1816"/>
                    </a:lnTo>
                    <a:lnTo>
                      <a:pt x="3621" y="1816"/>
                    </a:lnTo>
                    <a:lnTo>
                      <a:pt x="1810" y="0"/>
                    </a:lnTo>
                    <a:close/>
                  </a:path>
                </a:pathLst>
              </a:custGeom>
              <a:solidFill>
                <a:srgbClr val="545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954880" y="3472920"/>
                <a:ext cx="1187280" cy="595080"/>
              </a:xfrm>
              <a:custGeom>
                <a:avLst/>
                <a:gdLst/>
                <a:ahLst/>
                <a:rect l="l" t="t" r="r" b="b"/>
                <a:pathLst>
                  <a:path w="3621" h="1815">
                    <a:moveTo>
                      <a:pt x="1810" y="0"/>
                    </a:moveTo>
                    <a:lnTo>
                      <a:pt x="0" y="1815"/>
                    </a:lnTo>
                    <a:lnTo>
                      <a:pt x="3621" y="1815"/>
                    </a:lnTo>
                    <a:lnTo>
                      <a:pt x="1810" y="0"/>
                    </a:lnTo>
                    <a:close/>
                  </a:path>
                </a:pathLst>
              </a:custGeom>
              <a:solidFill>
                <a:srgbClr val="8c9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2948040" y="3668760"/>
              <a:ext cx="801360" cy="402840"/>
              <a:chOff x="2948040" y="3668760"/>
              <a:chExt cx="801360" cy="402840"/>
            </a:xfrm>
          </p:grpSpPr>
          <p:sp>
            <p:nvSpPr>
              <p:cNvPr id="744" name=""/>
              <p:cNvSpPr/>
              <p:nvPr/>
            </p:nvSpPr>
            <p:spPr>
              <a:xfrm>
                <a:off x="2948040" y="3668760"/>
                <a:ext cx="793800" cy="396360"/>
              </a:xfrm>
              <a:custGeom>
                <a:avLst/>
                <a:gdLst/>
                <a:ahLst/>
                <a:rect l="l" t="t" r="r" b="b"/>
                <a:pathLst>
                  <a:path w="2418" h="1206">
                    <a:moveTo>
                      <a:pt x="1209" y="0"/>
                    </a:moveTo>
                    <a:lnTo>
                      <a:pt x="0" y="1206"/>
                    </a:lnTo>
                    <a:lnTo>
                      <a:pt x="2418" y="1206"/>
                    </a:lnTo>
                    <a:lnTo>
                      <a:pt x="1209" y="0"/>
                    </a:lnTo>
                    <a:close/>
                  </a:path>
                </a:pathLst>
              </a:custGeom>
              <a:solidFill>
                <a:srgbClr val="a6a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954520" y="3675240"/>
                <a:ext cx="794880" cy="396360"/>
              </a:xfrm>
              <a:custGeom>
                <a:avLst/>
                <a:gdLst/>
                <a:ahLst/>
                <a:rect l="l" t="t" r="r" b="b"/>
                <a:pathLst>
                  <a:path w="2418" h="1206">
                    <a:moveTo>
                      <a:pt x="1209" y="0"/>
                    </a:moveTo>
                    <a:lnTo>
                      <a:pt x="0" y="1206"/>
                    </a:lnTo>
                    <a:lnTo>
                      <a:pt x="2418" y="1206"/>
                    </a:lnTo>
                    <a:lnTo>
                      <a:pt x="1209" y="0"/>
                    </a:lnTo>
                    <a:close/>
                  </a:path>
                </a:pathLst>
              </a:custGeom>
              <a:solidFill>
                <a:srgbClr val="4044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951640" y="3672360"/>
                <a:ext cx="793800" cy="395280"/>
              </a:xfrm>
              <a:custGeom>
                <a:avLst/>
                <a:gdLst/>
                <a:ahLst/>
                <a:rect l="l" t="t" r="r" b="b"/>
                <a:pathLst>
                  <a:path w="2417" h="1206">
                    <a:moveTo>
                      <a:pt x="1208" y="0"/>
                    </a:moveTo>
                    <a:lnTo>
                      <a:pt x="0" y="1206"/>
                    </a:lnTo>
                    <a:lnTo>
                      <a:pt x="2417" y="1206"/>
                    </a:lnTo>
                    <a:lnTo>
                      <a:pt x="1208" y="0"/>
                    </a:lnTo>
                    <a:close/>
                  </a:path>
                </a:pathLst>
              </a:custGeom>
              <a:solidFill>
                <a:srgbClr val="6b71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3149640" y="3668760"/>
              <a:ext cx="796680" cy="402840"/>
              <a:chOff x="3149640" y="3668760"/>
              <a:chExt cx="796680" cy="402840"/>
            </a:xfrm>
          </p:grpSpPr>
          <p:sp>
            <p:nvSpPr>
              <p:cNvPr id="748" name=""/>
              <p:cNvSpPr/>
              <p:nvPr/>
            </p:nvSpPr>
            <p:spPr>
              <a:xfrm>
                <a:off x="3149640" y="3668760"/>
                <a:ext cx="790200" cy="396360"/>
              </a:xfrm>
              <a:custGeom>
                <a:avLst/>
                <a:gdLst/>
                <a:ahLst/>
                <a:rect l="l" t="t" r="r" b="b"/>
                <a:pathLst>
                  <a:path w="2408" h="1206">
                    <a:moveTo>
                      <a:pt x="1203" y="0"/>
                    </a:moveTo>
                    <a:lnTo>
                      <a:pt x="0" y="1206"/>
                    </a:lnTo>
                    <a:lnTo>
                      <a:pt x="2408" y="1206"/>
                    </a:lnTo>
                    <a:lnTo>
                      <a:pt x="1203" y="0"/>
                    </a:lnTo>
                    <a:close/>
                  </a:path>
                </a:pathLst>
              </a:custGeom>
              <a:solidFill>
                <a:srgbClr val="9ca1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156120" y="3675240"/>
                <a:ext cx="790200" cy="396360"/>
              </a:xfrm>
              <a:custGeom>
                <a:avLst/>
                <a:gdLst/>
                <a:ahLst/>
                <a:rect l="l" t="t" r="r" b="b"/>
                <a:pathLst>
                  <a:path w="2408" h="1206">
                    <a:moveTo>
                      <a:pt x="1203" y="0"/>
                    </a:moveTo>
                    <a:lnTo>
                      <a:pt x="0" y="1206"/>
                    </a:lnTo>
                    <a:lnTo>
                      <a:pt x="2408" y="1206"/>
                    </a:lnTo>
                    <a:lnTo>
                      <a:pt x="1203" y="0"/>
                    </a:lnTo>
                    <a:close/>
                  </a:path>
                </a:pathLst>
              </a:custGeom>
              <a:solidFill>
                <a:srgbClr val="363b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153240" y="3672360"/>
                <a:ext cx="790560" cy="395280"/>
              </a:xfrm>
              <a:custGeom>
                <a:avLst/>
                <a:gdLst/>
                <a:ahLst/>
                <a:rect l="l" t="t" r="r" b="b"/>
                <a:pathLst>
                  <a:path w="2409" h="1206">
                    <a:moveTo>
                      <a:pt x="1204" y="0"/>
                    </a:moveTo>
                    <a:lnTo>
                      <a:pt x="0" y="1206"/>
                    </a:lnTo>
                    <a:lnTo>
                      <a:pt x="2409" y="1206"/>
                    </a:lnTo>
                    <a:lnTo>
                      <a:pt x="1204" y="0"/>
                    </a:lnTo>
                    <a:close/>
                  </a:path>
                </a:pathLst>
              </a:custGeom>
              <a:solidFill>
                <a:srgbClr val="5b62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3940200" y="3668760"/>
              <a:ext cx="801360" cy="402840"/>
              <a:chOff x="3940200" y="3668760"/>
              <a:chExt cx="801360" cy="402840"/>
            </a:xfrm>
          </p:grpSpPr>
          <p:sp>
            <p:nvSpPr>
              <p:cNvPr id="752" name=""/>
              <p:cNvSpPr/>
              <p:nvPr/>
            </p:nvSpPr>
            <p:spPr>
              <a:xfrm>
                <a:off x="3940200" y="3668760"/>
                <a:ext cx="793440" cy="396360"/>
              </a:xfrm>
              <a:custGeom>
                <a:avLst/>
                <a:gdLst/>
                <a:ahLst/>
                <a:rect l="l" t="t" r="r" b="b"/>
                <a:pathLst>
                  <a:path w="2418" h="1206">
                    <a:moveTo>
                      <a:pt x="1209" y="0"/>
                    </a:moveTo>
                    <a:lnTo>
                      <a:pt x="0" y="1206"/>
                    </a:lnTo>
                    <a:lnTo>
                      <a:pt x="2418" y="1206"/>
                    </a:lnTo>
                    <a:lnTo>
                      <a:pt x="1209" y="0"/>
                    </a:lnTo>
                    <a:close/>
                  </a:path>
                </a:pathLst>
              </a:custGeom>
              <a:solidFill>
                <a:srgbClr val="9ca1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946680" y="3675240"/>
                <a:ext cx="794880" cy="396360"/>
              </a:xfrm>
              <a:custGeom>
                <a:avLst/>
                <a:gdLst/>
                <a:ahLst/>
                <a:rect l="l" t="t" r="r" b="b"/>
                <a:pathLst>
                  <a:path w="2418" h="1206">
                    <a:moveTo>
                      <a:pt x="1209" y="0"/>
                    </a:moveTo>
                    <a:lnTo>
                      <a:pt x="0" y="1206"/>
                    </a:lnTo>
                    <a:lnTo>
                      <a:pt x="2418" y="1206"/>
                    </a:lnTo>
                    <a:lnTo>
                      <a:pt x="1209" y="0"/>
                    </a:lnTo>
                    <a:close/>
                  </a:path>
                </a:pathLst>
              </a:custGeom>
              <a:solidFill>
                <a:srgbClr val="363b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943800" y="3672360"/>
                <a:ext cx="793800" cy="395280"/>
              </a:xfrm>
              <a:custGeom>
                <a:avLst/>
                <a:gdLst/>
                <a:ahLst/>
                <a:rect l="l" t="t" r="r" b="b"/>
                <a:pathLst>
                  <a:path w="2417" h="1206">
                    <a:moveTo>
                      <a:pt x="1208" y="0"/>
                    </a:moveTo>
                    <a:lnTo>
                      <a:pt x="0" y="1206"/>
                    </a:lnTo>
                    <a:lnTo>
                      <a:pt x="2417" y="1206"/>
                    </a:lnTo>
                    <a:lnTo>
                      <a:pt x="1208" y="0"/>
                    </a:lnTo>
                    <a:close/>
                  </a:path>
                </a:pathLst>
              </a:custGeom>
              <a:solidFill>
                <a:srgbClr val="5b62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5" name=""/>
          <p:cNvSpPr/>
          <p:nvPr/>
        </p:nvSpPr>
        <p:spPr>
          <a:xfrm>
            <a:off x="2932200" y="3559320"/>
            <a:ext cx="2031840" cy="96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y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tology 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5835600" y="3051000"/>
            <a:ext cx="406440" cy="40356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2"/>
          <a:stretch/>
        </p:blipFill>
        <p:spPr>
          <a:xfrm>
            <a:off x="5835600" y="35830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3"/>
          <a:stretch/>
        </p:blipFill>
        <p:spPr>
          <a:xfrm>
            <a:off x="5835600" y="4118040"/>
            <a:ext cx="406440" cy="40464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3932280" y="3009960"/>
            <a:ext cx="1417680" cy="47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aso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du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524560" y="3227400"/>
            <a:ext cx="0" cy="1197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4"/>
          <a:stretch/>
        </p:blipFill>
        <p:spPr>
          <a:xfrm>
            <a:off x="5316480" y="3051000"/>
            <a:ext cx="403200" cy="40356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5"/>
          <a:stretch/>
        </p:blipFill>
        <p:spPr>
          <a:xfrm>
            <a:off x="5316480" y="358308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6"/>
          <a:stretch/>
        </p:blipFill>
        <p:spPr>
          <a:xfrm>
            <a:off x="5316480" y="4118040"/>
            <a:ext cx="403200" cy="40464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2638440" y="4716360"/>
            <a:ext cx="3770280" cy="633600"/>
          </a:xfrm>
          <a:prstGeom prst="rect">
            <a:avLst/>
          </a:prstGeom>
          <a:solidFill>
            <a:srgbClr val="000066"/>
          </a:solidFill>
          <a:ln w="38160">
            <a:solidFill>
              <a:srgbClr val="7272dc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d4d8f4"/>
                </a:solidFill>
                <a:latin typeface="Tahoma"/>
              </a:rPr>
              <a:t>Interface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d4d8f4"/>
                </a:solidFill>
                <a:latin typeface="Tahoma"/>
              </a:rPr>
              <a:t>External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6453360" y="2867040"/>
            <a:ext cx="679320" cy="1805040"/>
          </a:xfrm>
          <a:prstGeom prst="rect">
            <a:avLst/>
          </a:prstGeom>
          <a:solidFill>
            <a:srgbClr val="000066"/>
          </a:solidFill>
          <a:ln w="38160">
            <a:solidFill>
              <a:srgbClr val="7272dc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d4d8f4"/>
                </a:solidFill>
                <a:latin typeface="Tahoma"/>
              </a:rPr>
              <a:t>Cyc A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1911240" y="2867040"/>
            <a:ext cx="679680" cy="1805040"/>
          </a:xfrm>
          <a:prstGeom prst="rect">
            <a:avLst/>
          </a:prstGeom>
          <a:solidFill>
            <a:srgbClr val="000066"/>
          </a:solidFill>
          <a:ln w="38160">
            <a:solidFill>
              <a:srgbClr val="7272dc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d4d8f4"/>
                </a:solidFill>
                <a:latin typeface="Tahoma"/>
              </a:rPr>
              <a:t>Knowledge Entry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638440" y="2190600"/>
            <a:ext cx="3770280" cy="633600"/>
          </a:xfrm>
          <a:prstGeom prst="rect">
            <a:avLst/>
          </a:prstGeom>
          <a:solidFill>
            <a:srgbClr val="000066"/>
          </a:solidFill>
          <a:ln w="38160">
            <a:solidFill>
              <a:srgbClr val="7272dc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d4d8f4"/>
                </a:solidFill>
                <a:latin typeface="Tahoma"/>
              </a:rPr>
              <a:t>User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d4d8f4"/>
                </a:solidFill>
                <a:latin typeface="Tahoma"/>
              </a:rPr>
              <a:t>(with Natural Language Dialo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592360" y="5603760"/>
            <a:ext cx="812880" cy="851040"/>
          </a:xfrm>
          <a:prstGeom prst="can">
            <a:avLst>
              <a:gd name="adj" fmla="val 20833"/>
            </a:avLst>
          </a:prstGeom>
          <a:solidFill>
            <a:srgbClr val="000066"/>
          </a:solidFill>
          <a:ln w="6480">
            <a:solidFill>
              <a:srgbClr val="d4d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ahoma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ahoma"/>
              </a:rPr>
              <a:t>B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608280" y="5603760"/>
            <a:ext cx="812880" cy="851040"/>
          </a:xfrm>
          <a:prstGeom prst="can">
            <a:avLst>
              <a:gd name="adj" fmla="val 20833"/>
            </a:avLst>
          </a:prstGeom>
          <a:solidFill>
            <a:srgbClr val="000066"/>
          </a:solidFill>
          <a:ln w="6480">
            <a:solidFill>
              <a:srgbClr val="d4d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ahoma"/>
              </a:rPr>
              <a:t>We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ahoma"/>
              </a:rPr>
              <a:t>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624560" y="5603760"/>
            <a:ext cx="812520" cy="851040"/>
          </a:xfrm>
          <a:prstGeom prst="can">
            <a:avLst>
              <a:gd name="adj" fmla="val 20833"/>
            </a:avLst>
          </a:prstGeom>
          <a:solidFill>
            <a:srgbClr val="000066"/>
          </a:solidFill>
          <a:ln w="6480">
            <a:solidFill>
              <a:srgbClr val="d4d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ahoma"/>
              </a:rPr>
              <a:t>Text Sour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640480" y="5603760"/>
            <a:ext cx="812880" cy="851040"/>
          </a:xfrm>
          <a:prstGeom prst="can">
            <a:avLst>
              <a:gd name="adj" fmla="val 20833"/>
            </a:avLst>
          </a:prstGeom>
          <a:solidFill>
            <a:srgbClr val="000066"/>
          </a:solidFill>
          <a:ln w="6480">
            <a:solidFill>
              <a:srgbClr val="d4d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Tahoma"/>
              </a:rPr>
              <a:t>Other K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175880" y="2303640"/>
            <a:ext cx="1600920" cy="58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64400" y="2303640"/>
            <a:ext cx="1451880" cy="58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th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621800" y="1252440"/>
            <a:ext cx="1451880" cy="58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402560" y="5584680"/>
            <a:ext cx="1139400" cy="83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ter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210440" y="3227400"/>
            <a:ext cx="157320" cy="189000"/>
          </a:xfrm>
          <a:prstGeom prst="leftRightArrow">
            <a:avLst>
              <a:gd name="adj1" fmla="val 57694"/>
              <a:gd name="adj2" fmla="val 26264"/>
            </a:avLst>
          </a:prstGeom>
          <a:solidFill>
            <a:srgbClr val="9da6e7"/>
          </a:solidFill>
          <a:ln w="12600">
            <a:solidFill>
              <a:srgbClr val="9da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210440" y="4094280"/>
            <a:ext cx="157320" cy="188640"/>
          </a:xfrm>
          <a:prstGeom prst="leftRightArrow">
            <a:avLst>
              <a:gd name="adj1" fmla="val 57694"/>
              <a:gd name="adj2" fmla="val 26264"/>
            </a:avLst>
          </a:prstGeom>
          <a:solidFill>
            <a:srgbClr val="9da6e7"/>
          </a:solidFill>
          <a:ln w="12600">
            <a:solidFill>
              <a:srgbClr val="9da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rot="5400000">
            <a:off x="3406320" y="1981080"/>
            <a:ext cx="157320" cy="189000"/>
          </a:xfrm>
          <a:prstGeom prst="leftRightArrow">
            <a:avLst>
              <a:gd name="adj1" fmla="val 57694"/>
              <a:gd name="adj2" fmla="val 26264"/>
            </a:avLst>
          </a:prstGeom>
          <a:solidFill>
            <a:srgbClr val="9da6e7"/>
          </a:solidFill>
          <a:ln w="12600">
            <a:solidFill>
              <a:srgbClr val="9da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rot="5400000">
            <a:off x="4463640" y="1981080"/>
            <a:ext cx="157320" cy="189000"/>
          </a:xfrm>
          <a:prstGeom prst="leftRightArrow">
            <a:avLst>
              <a:gd name="adj1" fmla="val 57694"/>
              <a:gd name="adj2" fmla="val 26264"/>
            </a:avLst>
          </a:prstGeom>
          <a:solidFill>
            <a:srgbClr val="9da6e7"/>
          </a:solidFill>
          <a:ln w="12600">
            <a:solidFill>
              <a:srgbClr val="9da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rot="5400000">
            <a:off x="5565240" y="1981080"/>
            <a:ext cx="157320" cy="189000"/>
          </a:xfrm>
          <a:prstGeom prst="leftRightArrow">
            <a:avLst>
              <a:gd name="adj1" fmla="val 57694"/>
              <a:gd name="adj2" fmla="val 26264"/>
            </a:avLst>
          </a:prstGeom>
          <a:solidFill>
            <a:srgbClr val="9da6e7"/>
          </a:solidFill>
          <a:ln w="12600">
            <a:solidFill>
              <a:srgbClr val="9da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rot="5400000">
            <a:off x="2917440" y="5394240"/>
            <a:ext cx="157320" cy="189000"/>
          </a:xfrm>
          <a:prstGeom prst="leftRightArrow">
            <a:avLst>
              <a:gd name="adj1" fmla="val 57694"/>
              <a:gd name="adj2" fmla="val 26264"/>
            </a:avLst>
          </a:prstGeom>
          <a:solidFill>
            <a:srgbClr val="9da6e7"/>
          </a:solidFill>
          <a:ln w="12600">
            <a:solidFill>
              <a:srgbClr val="9da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rot="5400000">
            <a:off x="3936600" y="5394240"/>
            <a:ext cx="157320" cy="189000"/>
          </a:xfrm>
          <a:prstGeom prst="leftRightArrow">
            <a:avLst>
              <a:gd name="adj1" fmla="val 57694"/>
              <a:gd name="adj2" fmla="val 26264"/>
            </a:avLst>
          </a:prstGeom>
          <a:solidFill>
            <a:srgbClr val="9da6e7"/>
          </a:solidFill>
          <a:ln w="12600">
            <a:solidFill>
              <a:srgbClr val="9da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rot="5400000">
            <a:off x="4927320" y="5394240"/>
            <a:ext cx="157320" cy="188640"/>
          </a:xfrm>
          <a:prstGeom prst="leftRightArrow">
            <a:avLst>
              <a:gd name="adj1" fmla="val 57694"/>
              <a:gd name="adj2" fmla="val 26264"/>
            </a:avLst>
          </a:prstGeom>
          <a:solidFill>
            <a:srgbClr val="9da6e7"/>
          </a:solidFill>
          <a:ln w="12600">
            <a:solidFill>
              <a:srgbClr val="9da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rot="5400000">
            <a:off x="5955840" y="5394240"/>
            <a:ext cx="157320" cy="189000"/>
          </a:xfrm>
          <a:prstGeom prst="leftRightArrow">
            <a:avLst>
              <a:gd name="adj1" fmla="val 57694"/>
              <a:gd name="adj2" fmla="val 26264"/>
            </a:avLst>
          </a:prstGeom>
          <a:solidFill>
            <a:srgbClr val="9da6e7"/>
          </a:solidFill>
          <a:ln w="12600">
            <a:solidFill>
              <a:srgbClr val="9da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719360" y="3193920"/>
            <a:ext cx="156960" cy="189000"/>
          </a:xfrm>
          <a:prstGeom prst="leftRightArrow">
            <a:avLst>
              <a:gd name="adj1" fmla="val 57694"/>
              <a:gd name="adj2" fmla="val 26264"/>
            </a:avLst>
          </a:prstGeom>
          <a:solidFill>
            <a:srgbClr val="9da6e7"/>
          </a:solidFill>
          <a:ln w="12600">
            <a:solidFill>
              <a:srgbClr val="9da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719360" y="4127400"/>
            <a:ext cx="156960" cy="189000"/>
          </a:xfrm>
          <a:prstGeom prst="leftRightArrow">
            <a:avLst>
              <a:gd name="adj1" fmla="val 57694"/>
              <a:gd name="adj2" fmla="val 26264"/>
            </a:avLst>
          </a:prstGeom>
          <a:solidFill>
            <a:srgbClr val="9da6e7"/>
          </a:solidFill>
          <a:ln w="12600">
            <a:solidFill>
              <a:srgbClr val="9da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7"/>
          <a:stretch/>
        </p:blipFill>
        <p:spPr>
          <a:xfrm>
            <a:off x="3981600" y="1200240"/>
            <a:ext cx="1131840" cy="7430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88" name="" descr=""/>
          <p:cNvPicPr/>
          <p:nvPr/>
        </p:nvPicPr>
        <p:blipFill>
          <a:blip r:embed="rId8"/>
          <a:stretch/>
        </p:blipFill>
        <p:spPr>
          <a:xfrm>
            <a:off x="5200560" y="1206360"/>
            <a:ext cx="1136880" cy="730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89" name="" descr=""/>
          <p:cNvPicPr/>
          <p:nvPr/>
        </p:nvPicPr>
        <p:blipFill>
          <a:blip r:embed="rId9"/>
          <a:stretch/>
        </p:blipFill>
        <p:spPr>
          <a:xfrm>
            <a:off x="3086280" y="1200240"/>
            <a:ext cx="796680" cy="7430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90" name="" descr=""/>
          <p:cNvPicPr/>
          <p:nvPr/>
        </p:nvPicPr>
        <p:blipFill>
          <a:blip r:embed="rId10"/>
          <a:stretch/>
        </p:blipFill>
        <p:spPr>
          <a:xfrm>
            <a:off x="639720" y="3778200"/>
            <a:ext cx="1035000" cy="873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91" name="" descr=""/>
          <p:cNvPicPr/>
          <p:nvPr/>
        </p:nvPicPr>
        <p:blipFill>
          <a:blip r:embed="rId11"/>
          <a:stretch/>
        </p:blipFill>
        <p:spPr>
          <a:xfrm>
            <a:off x="649440" y="2922480"/>
            <a:ext cx="1015920" cy="6796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92" name="" descr=""/>
          <p:cNvPicPr/>
          <p:nvPr/>
        </p:nvPicPr>
        <p:blipFill>
          <a:blip r:embed="rId12"/>
          <a:stretch/>
        </p:blipFill>
        <p:spPr>
          <a:xfrm>
            <a:off x="7440480" y="2948040"/>
            <a:ext cx="641520" cy="149220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13"/>
          <a:stretch/>
        </p:blipFill>
        <p:spPr>
          <a:xfrm>
            <a:off x="8024760" y="2948040"/>
            <a:ext cx="641520" cy="149220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5305320" y="3038400"/>
            <a:ext cx="419040" cy="419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832360" y="3038400"/>
            <a:ext cx="419040" cy="419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305320" y="3571920"/>
            <a:ext cx="419040" cy="419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832360" y="3571920"/>
            <a:ext cx="419040" cy="419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305320" y="4105440"/>
            <a:ext cx="419040" cy="419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832360" y="4105440"/>
            <a:ext cx="419040" cy="419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522080" y="228600"/>
            <a:ext cx="599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 Reasoning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51920" y="479160"/>
            <a:ext cx="899172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664d"/>
                </a:solidFill>
                <a:latin typeface="Georgia"/>
              </a:rPr>
              <a:t>What Gap in AGI Does OpenCyc  Fill?</a:t>
            </a:r>
            <a:endParaRPr b="0" lang="en-US" sz="32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5560" cy="50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A world model is required by any general problem-solving AI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Concepts in the world model range in level of abstraction from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01000"/>
              </a:lnSpc>
              <a:spcBef>
                <a:spcPts val="550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e3b30"/>
                </a:solidFill>
                <a:latin typeface="Georgia"/>
              </a:rPr>
              <a:t> </a:t>
            </a:r>
            <a:r>
              <a:rPr b="0" lang="en-GB" sz="1600" spc="-1" strike="noStrike">
                <a:solidFill>
                  <a:srgbClr val="4e3b30"/>
                </a:solidFill>
                <a:latin typeface="Georgia"/>
              </a:rPr>
              <a:t>the sub-symbolic, e.g. perceived sound wave </a:t>
            </a: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lnSpc>
                <a:spcPct val="101000"/>
              </a:lnSpc>
              <a:spcBef>
                <a:spcPts val="550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e3b30"/>
                </a:solidFill>
                <a:latin typeface="Georgia"/>
              </a:rPr>
              <a:t>Symbolic, e.g. name and address</a:t>
            </a: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OpenCyc provides a candidate schema for a comprehensive symbolic world mod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An essential aspect of general problem-solving is the use of inference – acting upon conclusions derived from observations, experience or premis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1523520"/>
            <a:ext cx="4165560" cy="34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OpenCyc’s knowledge representation format is symbolic, and is designed for deductive inference, and has been demonstrated with planning, induction, and abduction as wel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A recursively self-improving AGI should take advantage of existing structured knowledge sourc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OpenCyc technology has been demonstrated to integrate structured knowledge sourc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4" name="Slide Number Placeholder 4"/>
          <p:cNvSpPr/>
          <p:nvPr/>
        </p:nvSpPr>
        <p:spPr>
          <a:xfrm>
            <a:off x="4362480" y="1027080"/>
            <a:ext cx="4525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5BA5E-F760-4FB7-9504-88CCF46BF8F8}" type="slidenum">
              <a:rPr b="0" lang="en-US" sz="1600" spc="-1" strike="noStrike">
                <a:solidFill>
                  <a:srgbClr val="9f7a7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Topic Map – Top Level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06" name=""/>
          <p:cNvSpPr/>
          <p:nvPr/>
        </p:nvSpPr>
        <p:spPr>
          <a:xfrm>
            <a:off x="-289080" y="-609480"/>
            <a:ext cx="1432080" cy="800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01000" y="-1143000"/>
            <a:ext cx="175248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1085760" y="-1371600"/>
            <a:ext cx="6972480" cy="882000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8032680" y="2209680"/>
            <a:ext cx="11430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-666720" y="-1666800"/>
            <a:ext cx="1752480" cy="929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029440" y="-1447920"/>
            <a:ext cx="1752840" cy="9296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51920" y="479160"/>
            <a:ext cx="899172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664d"/>
                </a:solidFill>
                <a:latin typeface="Georgia"/>
              </a:rPr>
              <a:t>OpenCyc Fundamentals </a:t>
            </a:r>
            <a:endParaRPr b="0" lang="en-US" sz="32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5560" cy="55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Symbolic concepts are represented as atomic terms, e.g. TransportationDevice, or a composed terms, e.g. (FruitFn AppleTre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Besides concepts, terms can also be literals, e.g. true, false, “abcdef”, 1.0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Relations about terms are represented by assertions, having a named predicate and from one to six argument positions filled by a term or another asserti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Each assertion is placed in a context, called a microtheory.  These contexts are also terms and are arranged by OpenCyc into a generalization hierarchy for inferenc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1523520"/>
            <a:ext cx="416556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Categories of OpenCyc concept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01000"/>
              </a:lnSpc>
              <a:spcBef>
                <a:spcPts val="550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e3b30"/>
                </a:solidFill>
                <a:latin typeface="Georgia"/>
              </a:rPr>
              <a:t>Collection (RDF Class)</a:t>
            </a: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lnSpc>
                <a:spcPct val="101000"/>
              </a:lnSpc>
              <a:spcBef>
                <a:spcPts val="550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e3b30"/>
                </a:solidFill>
                <a:latin typeface="Georgia"/>
              </a:rPr>
              <a:t>Individual (RDF Individual)</a:t>
            </a: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lnSpc>
                <a:spcPct val="101000"/>
              </a:lnSpc>
              <a:spcBef>
                <a:spcPts val="550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e3b30"/>
                </a:solidFill>
                <a:latin typeface="Georgia"/>
              </a:rPr>
              <a:t>Predicate (RDF Property)</a:t>
            </a: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lnSpc>
                <a:spcPct val="101000"/>
              </a:lnSpc>
              <a:spcBef>
                <a:spcPts val="550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e3b30"/>
                </a:solidFill>
                <a:latin typeface="Georgia"/>
              </a:rPr>
              <a:t>Microtheory (RDF named graph)</a:t>
            </a: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Single rooted concept hierarchy with </a:t>
            </a:r>
            <a:r>
              <a:rPr b="0" i="1" lang="en-GB" sz="1800" spc="-1" strike="noStrike">
                <a:solidFill>
                  <a:srgbClr val="000000"/>
                </a:solidFill>
                <a:latin typeface="Georgia"/>
              </a:rPr>
              <a:t>Thing</a:t>
            </a: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 at the top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Multiple inheritanc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Class cross-cutting aspect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01000"/>
              </a:lnSpc>
              <a:spcBef>
                <a:spcPts val="550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e3b30"/>
                </a:solidFill>
                <a:latin typeface="Georgia"/>
              </a:rPr>
              <a:t>Temporal vs non-temporal</a:t>
            </a: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lnSpc>
                <a:spcPct val="101000"/>
              </a:lnSpc>
              <a:spcBef>
                <a:spcPts val="550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e3b30"/>
                </a:solidFill>
                <a:latin typeface="Georgia"/>
              </a:rPr>
              <a:t>Object-like vs Stuff-like</a:t>
            </a: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lnSpc>
                <a:spcPct val="101000"/>
              </a:lnSpc>
              <a:spcBef>
                <a:spcPts val="550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e3b30"/>
                </a:solidFill>
                <a:latin typeface="Georgia"/>
              </a:rPr>
              <a:t>Partially-tangible vs intangible</a:t>
            </a: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lnSpc>
                <a:spcPct val="101000"/>
              </a:lnSpc>
              <a:spcBef>
                <a:spcPts val="550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e3b30"/>
                </a:solidFill>
                <a:latin typeface="Georgia"/>
              </a:rPr>
              <a:t>Individual vs SetOrCollection</a:t>
            </a: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lnSpc>
                <a:spcPct val="101000"/>
              </a:lnSpc>
              <a:spcBef>
                <a:spcPts val="550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e3b30"/>
                </a:solidFill>
                <a:latin typeface="Georgia"/>
              </a:rPr>
              <a:t>Whether something is a situation or not</a:t>
            </a: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815" name="Slide Number Placeholder 4"/>
          <p:cNvSpPr/>
          <p:nvPr/>
        </p:nvSpPr>
        <p:spPr>
          <a:xfrm>
            <a:off x="4362480" y="1027080"/>
            <a:ext cx="4525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97F68-CB08-4404-AF96-754AB9415BD0}" type="slidenum">
              <a:rPr b="0" lang="en-US" sz="1600" spc="-1" strike="noStrike">
                <a:solidFill>
                  <a:srgbClr val="9f7a7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51920" y="479160"/>
            <a:ext cx="899172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664d"/>
                </a:solidFill>
                <a:latin typeface="Georgia"/>
              </a:rPr>
              <a:t>A Tour of OpenCyc </a:t>
            </a:r>
            <a:endParaRPr b="0" lang="en-US" sz="32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556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OpenCyc.org    her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01000"/>
              </a:lnSpc>
              <a:spcBef>
                <a:spcPts val="550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e3b30"/>
                </a:solidFill>
                <a:latin typeface="Georgia"/>
              </a:rPr>
              <a:t>A lot of documentation and tutorials</a:t>
            </a: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lnSpc>
                <a:spcPct val="101000"/>
              </a:lnSpc>
              <a:spcBef>
                <a:spcPts val="550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e3b30"/>
                </a:solidFill>
                <a:latin typeface="Georgia"/>
              </a:rPr>
              <a:t>Cyc 101 – periodic Cyc classes in Austin</a:t>
            </a: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Doug Lenat’s presentation at Google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ere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Knowledge Base browser  her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01000"/>
              </a:lnSpc>
              <a:spcBef>
                <a:spcPts val="550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e3b30"/>
                </a:solidFill>
                <a:latin typeface="Georgia"/>
              </a:rPr>
              <a:t>Definitional assertions</a:t>
            </a: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lnSpc>
                <a:spcPct val="101000"/>
              </a:lnSpc>
              <a:spcBef>
                <a:spcPts val="550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e3b30"/>
                </a:solidFill>
                <a:latin typeface="Georgia"/>
              </a:rPr>
              <a:t>Hierarchy browser</a:t>
            </a: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Cyc Foundation OpenCyc endpoint her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Cyc vocabulary introduction  (e.g. event actors)  her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3160" y="1523880"/>
            <a:ext cx="41655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Hosted at SourceForg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9" name="Slide Number Placeholder 4"/>
          <p:cNvSpPr/>
          <p:nvPr/>
        </p:nvSpPr>
        <p:spPr>
          <a:xfrm>
            <a:off x="4362480" y="1027080"/>
            <a:ext cx="4525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34F4E-1DA6-471D-B7F9-4343A5999C90}" type="slidenum">
              <a:rPr b="0" lang="en-US" sz="1600" spc="-1" strike="noStrike">
                <a:solidFill>
                  <a:srgbClr val="9f7a7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51920" y="479160"/>
            <a:ext cx="899172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664d"/>
                </a:solidFill>
                <a:latin typeface="Georgia"/>
              </a:rPr>
              <a:t>Linking Open Data </a:t>
            </a:r>
            <a:endParaRPr b="0" lang="en-US" sz="32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5560" cy="477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Databases and other structured knowledge sources expose their contents to the World Wide Web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Each exposed concept is identified with a URI, i.e. web addres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e address returns something descriptive to humans when viewed with a browse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Relationships between concepts are expressed as RDF statements: subject, predicate (i.e. property), object, and optional contex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OWL and RDF provide standard schema defining properties: rdf:type, rdfs:subClassOf, owl:sameAs, etc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3160" y="1523520"/>
            <a:ext cx="4165560" cy="51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Linked Open Data forms part of the Semantic Web infrastructure.  Now need to construct the intelligent agents that use the linked data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OpenCyc is a contender for the standard ontology for linking open dat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e UMBEL topic ontology was derived from OpenCyc and has 20000 class term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268200">
              <a:lnSpc>
                <a:spcPct val="101000"/>
              </a:lnSpc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Notable LOD datasets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101000"/>
              </a:lnSpc>
              <a:spcBef>
                <a:spcPts val="550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e3b30"/>
                </a:solidFill>
                <a:latin typeface="Georgia"/>
              </a:rPr>
              <a:t>DBPedia – derived from Wikipedia</a:t>
            </a: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lnSpc>
                <a:spcPct val="101000"/>
              </a:lnSpc>
              <a:spcBef>
                <a:spcPts val="550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e3b30"/>
                </a:solidFill>
                <a:latin typeface="Georgia"/>
              </a:rPr>
              <a:t>YAGO – 20 million facts about 2 million named enties</a:t>
            </a: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lnSpc>
                <a:spcPct val="101000"/>
              </a:lnSpc>
              <a:spcBef>
                <a:spcPts val="550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e3b30"/>
                </a:solidFill>
                <a:latin typeface="Georgia"/>
              </a:rPr>
              <a:t>GeoNames – 6.5 million facts about geographical locations</a:t>
            </a:r>
            <a:endParaRPr b="0" lang="en-US" sz="1600" spc="-1" strike="noStrike">
              <a:solidFill>
                <a:srgbClr val="4e3b30"/>
              </a:solidFill>
              <a:latin typeface="Georgia"/>
            </a:endParaRPr>
          </a:p>
          <a:p>
            <a:pPr marL="268200"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3" name="Slide Number Placeholder 4"/>
          <p:cNvSpPr/>
          <p:nvPr/>
        </p:nvSpPr>
        <p:spPr>
          <a:xfrm>
            <a:off x="4362480" y="1027080"/>
            <a:ext cx="4525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5F016-1255-44D5-AB1D-8D16524C1DA3}" type="slidenum">
              <a:rPr b="0" lang="en-US" sz="1600" spc="-1" strike="noStrike">
                <a:solidFill>
                  <a:srgbClr val="9f7a7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thLynn Maxwell</dc:creator>
  <dc:description/>
  <dc:language>en-US</dc:language>
  <cp:lastModifiedBy>reed</cp:lastModifiedBy>
  <dcterms:modified xsi:type="dcterms:W3CDTF">2009-03-04T16:12:34Z</dcterms:modified>
  <cp:revision>7</cp:revision>
  <dc:subject/>
  <dc:title>Incremental Fluid Construction Grammar</dc:title>
</cp:coreProperties>
</file>