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2.png" ContentType="image/png"/>
  <Override PartName="/ppt/media/image4.jpeg" ContentType="image/jpeg"/>
  <Override PartName="/ppt/media/image15.jpeg" ContentType="image/jpeg"/>
  <Override PartName="/ppt/media/image9.png" ContentType="image/png"/>
  <Override PartName="/ppt/media/image17.wmf" ContentType="image/x-wmf"/>
  <Override PartName="/ppt/media/image14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F411AF-793F-402D-B1CC-3A01A101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DB2135-60F7-455C-85EC-AE3DC9ED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ACA6E6-D29C-41AE-AF27-4D3BFB931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C1D9D8-7A5D-455A-9001-3133C13DD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CBEE4C-1698-4404-ADD3-91CB6243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75EE1E-F929-4DB8-A37F-E02F0FE3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4F5473-95ED-41F9-B3F7-6BB1EB54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E1B894-0809-4B83-B7D5-B46EEE027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79C81D-F184-4BE3-A1B3-4CD8896F2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9096AE-999C-41DD-B793-66F95B3B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681151-5BBC-41BC-9E70-4812DA78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C618A1-F0F8-46FB-8B7C-6E8FE0BB9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632C1A-D283-4B31-B385-243F836D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2F419D-DF3F-49F7-90B2-D61C2BAF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3882E8-A53C-45DE-AC16-5186AC29F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F20778-0F95-4B5F-B4EF-78F575AF4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AA85B0-AADB-4904-8506-994D42468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E6CB02-5472-4386-82F6-A359855B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9E856B-39BE-44E6-92ED-BEB3B608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CD603A-2408-4AAF-8B97-A64659426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63309A-5492-4989-B881-EE9233FFF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F30CC0-9A3F-4504-A5D1-4171DCDFF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24650A-363E-4DD5-BEEC-D714CE5CE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2A6345-E6FF-48B2-9687-A8392C0AC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2688C0-B225-4868-8CBD-05A604F5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9FE484-A7E2-4DD8-95B6-711BC8A60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076E24-39BF-44DB-8573-9F6B785D9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D1399C-9422-459E-9143-892BAAC0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D2FF01-B80E-4CB7-99B0-41CFEE390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B1910D-D652-44D4-A05D-A3AF92361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76A178-FDC1-4B56-BFEF-A156B3CA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D96606-524B-45AB-A5FB-7DF23811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939488-CD71-4BB8-9E99-F0D92C5F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962507-841E-4ABF-985C-E73B15C67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918466-0836-4A06-AA31-06F5F01C4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02995F-C4BD-4B61-9447-4EDC539F6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7AF111-E802-443B-90DF-1FD16D00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89973A-D9FB-4EE0-BB0F-9C79FFD4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D1A187-72CF-4566-9B50-408BEBB99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B98918-B96F-469F-AC03-B409AC715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hape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B814A0-7A10-4E4E-A7F4-B60CEDEE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352116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7440" y="137160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352116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7440" y="352116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2360" y="137160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320" y="137160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352116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2360" y="352116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320" y="352116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7440" y="137160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563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7440" y="137160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352116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7440" y="137160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7440" y="352116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7440" y="137160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352116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17715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Box 177157"/>
          <p:cNvSpPr/>
          <p:nvPr/>
        </p:nvSpPr>
        <p:spPr>
          <a:xfrm>
            <a:off x="6781680" y="6477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Pirulen"/>
              </a:rPr>
              <a:t>Daxtron Lab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pencyc.org/" TargetMode="External"/><Relationship Id="rId2" Type="http://schemas.openxmlformats.org/officeDocument/2006/relationships/hyperlink" Target="http://researchcyc.cyc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ffff"/>
                </a:solidFill>
                <a:latin typeface="Tahoma"/>
              </a:rPr>
              <a:t>Simulation and Knowledge Acqusition using ResearchCyc</a:t>
            </a:r>
            <a:r>
              <a:rPr b="0" i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95960"/>
            <a:ext cx="6400800" cy="12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Kino Coursey and Douglas M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Daxtron Labs and University of North Tex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kino@daxtron.co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Box 2051"/>
          <p:cNvSpPr/>
          <p:nvPr/>
        </p:nvSpPr>
        <p:spPr>
          <a:xfrm>
            <a:off x="380880" y="4572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yN-D and BU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6500"/>
          <p:cNvSpPr/>
          <p:nvPr/>
        </p:nvSpPr>
        <p:spPr>
          <a:xfrm>
            <a:off x="838080" y="1584360"/>
            <a:ext cx="77724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6517"/>
          <p:cNvSpPr/>
          <p:nvPr/>
        </p:nvSpPr>
        <p:spPr>
          <a:xfrm>
            <a:off x="304920" y="1219320"/>
            <a:ext cx="861048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6531"/>
          <p:cNvSpPr/>
          <p:nvPr/>
        </p:nvSpPr>
        <p:spPr>
          <a:xfrm>
            <a:off x="3657600" y="1371600"/>
            <a:ext cx="51055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yN-D Environment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06501"/>
          <p:cNvSpPr/>
          <p:nvPr/>
        </p:nvSpPr>
        <p:spPr>
          <a:xfrm>
            <a:off x="3733920" y="1523880"/>
            <a:ext cx="4952880" cy="1249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6502"/>
          <p:cNvSpPr/>
          <p:nvPr/>
        </p:nvSpPr>
        <p:spPr>
          <a:xfrm>
            <a:off x="3733920" y="2773440"/>
            <a:ext cx="4952880" cy="426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 Virtual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6503"/>
          <p:cNvSpPr/>
          <p:nvPr/>
        </p:nvSpPr>
        <p:spPr>
          <a:xfrm>
            <a:off x="3733920" y="3200400"/>
            <a:ext cx="4343400" cy="682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om 3 World Simula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6504"/>
          <p:cNvSpPr/>
          <p:nvPr/>
        </p:nvSpPr>
        <p:spPr>
          <a:xfrm>
            <a:off x="7772400" y="1676520"/>
            <a:ext cx="831960" cy="1110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 API in 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6505"/>
          <p:cNvSpPr/>
          <p:nvPr/>
        </p:nvSpPr>
        <p:spPr>
          <a:xfrm>
            <a:off x="6705720" y="1676520"/>
            <a:ext cx="1068120" cy="1110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6506"/>
          <p:cNvSpPr/>
          <p:nvPr/>
        </p:nvSpPr>
        <p:spPr>
          <a:xfrm>
            <a:off x="4800600" y="1676520"/>
            <a:ext cx="1022400" cy="1110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ograph Vi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6507"/>
          <p:cNvSpPr/>
          <p:nvPr/>
        </p:nvSpPr>
        <p:spPr>
          <a:xfrm>
            <a:off x="3886200" y="1676520"/>
            <a:ext cx="971640" cy="1110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or / Object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6508"/>
          <p:cNvSpPr/>
          <p:nvPr/>
        </p:nvSpPr>
        <p:spPr>
          <a:xfrm>
            <a:off x="609480" y="3657600"/>
            <a:ext cx="2638440" cy="41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om3 Rendering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06509"/>
          <p:cNvSpPr/>
          <p:nvPr/>
        </p:nvSpPr>
        <p:spPr>
          <a:xfrm flipH="1">
            <a:off x="3614400" y="3805200"/>
            <a:ext cx="2761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6510"/>
          <p:cNvSpPr/>
          <p:nvPr/>
        </p:nvSpPr>
        <p:spPr>
          <a:xfrm flipV="1">
            <a:off x="7777080" y="2971440"/>
            <a:ext cx="1800" cy="13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06511"/>
          <p:cNvSpPr/>
          <p:nvPr/>
        </p:nvSpPr>
        <p:spPr>
          <a:xfrm>
            <a:off x="3614760" y="4081320"/>
            <a:ext cx="276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10651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638440" cy="22716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06513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3962160" cy="213696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06514"/>
          <p:cNvSpPr/>
          <p:nvPr/>
        </p:nvSpPr>
        <p:spPr>
          <a:xfrm>
            <a:off x="8055000" y="2971800"/>
            <a:ext cx="1440" cy="13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106516"/>
          <p:cNvSpPr/>
          <p:nvPr/>
        </p:nvSpPr>
        <p:spPr>
          <a:xfrm flipH="1">
            <a:off x="3200400" y="3505320"/>
            <a:ext cx="53352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106518" descr=""/>
          <p:cNvPicPr/>
          <p:nvPr/>
        </p:nvPicPr>
        <p:blipFill>
          <a:blip r:embed="rId3"/>
          <a:stretch/>
        </p:blipFill>
        <p:spPr>
          <a:xfrm>
            <a:off x="2895480" y="4267080"/>
            <a:ext cx="1067040" cy="72576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106519" descr=""/>
          <p:cNvPicPr/>
          <p:nvPr/>
        </p:nvPicPr>
        <p:blipFill>
          <a:blip r:embed="rId4"/>
          <a:stretch/>
        </p:blipFill>
        <p:spPr>
          <a:xfrm>
            <a:off x="1828800" y="5105520"/>
            <a:ext cx="1028880" cy="84744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106520" descr=""/>
          <p:cNvPicPr/>
          <p:nvPr/>
        </p:nvPicPr>
        <p:blipFill>
          <a:blip r:embed="rId5"/>
          <a:stretch/>
        </p:blipFill>
        <p:spPr>
          <a:xfrm>
            <a:off x="2971800" y="571500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106" name="Straight Connector 106521"/>
          <p:cNvSpPr/>
          <p:nvPr/>
        </p:nvSpPr>
        <p:spPr>
          <a:xfrm>
            <a:off x="3962520" y="4648320"/>
            <a:ext cx="45720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06522"/>
          <p:cNvSpPr/>
          <p:nvPr/>
        </p:nvSpPr>
        <p:spPr>
          <a:xfrm>
            <a:off x="2895480" y="5486400"/>
            <a:ext cx="15242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6523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6527"/>
          <p:cNvSpPr/>
          <p:nvPr/>
        </p:nvSpPr>
        <p:spPr>
          <a:xfrm>
            <a:off x="5791320" y="1676520"/>
            <a:ext cx="990360" cy="1110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nni Prolog Interp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6529"/>
          <p:cNvSpPr/>
          <p:nvPr/>
        </p:nvSpPr>
        <p:spPr>
          <a:xfrm flipV="1">
            <a:off x="7924680" y="281952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6530"/>
          <p:cNvSpPr/>
          <p:nvPr/>
        </p:nvSpPr>
        <p:spPr>
          <a:xfrm>
            <a:off x="3886200" y="2819520"/>
            <a:ext cx="4724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515"/>
          <p:cNvSpPr/>
          <p:nvPr/>
        </p:nvSpPr>
        <p:spPr>
          <a:xfrm>
            <a:off x="8229600" y="2514600"/>
            <a:ext cx="0" cy="175248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yclograph browser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hape 11162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8487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at is Cyc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world's largest and most complete general knowledge base and commonsense reasoning engin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rted in mid 1980’s (“should take only 10 years….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ic 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SP orien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WordNet users, each Conce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yn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vailable from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pencyc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researchcyc.cyc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02240" y="1371240"/>
            <a:ext cx="37036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 (ResearchCyc v0.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9,37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rti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68,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duc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61,1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06560" y="3255840"/>
            <a:ext cx="37018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ple Collection Ex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glishWor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,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,0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iallyTangibl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4,3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theor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,6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at is AIML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TML of Chatbo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cebot is the best known example, as the Lobner Prize winner. “Eliza 2005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XML format for specifying surface linguistic patterns and respon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easy to learn, hence its popu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recursive decomposition  and topic / context sensitiv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N restores original capability to execute arbitrary programs in addition to generating respo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522360"/>
            <a:ext cx="56386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IML using Cyc for Q/A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IML Code fragment activated by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categor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pattern&gt;DO YOU LIKE *&lt;/patter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guar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-ask '(#$genls  &lt;cycterm&gt;&lt;star index="1"/&gt;&lt;/cycterm&gt; #$DangerousThing) #$EverythingPSC) &lt;/guar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templat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 don't play with &lt;star index="1"/&gt; because I think it is dangerou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/templat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categor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 uses Cyc’s knowledge of things to express an opinion. In this case it doesn’t play with items Cyc thinks are dangerous. This is a quick way of specifying agent responses based on Cyc’s knowledge of thing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sking a D3 character about dangerous things 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0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you like Ebol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don't play with Ebola because I think it is 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Shape 29699" descr=""/>
          <p:cNvPicPr/>
          <p:nvPr/>
        </p:nvPicPr>
        <p:blipFill>
          <a:blip r:embed="rId1"/>
          <a:stretch/>
        </p:blipFill>
        <p:spPr>
          <a:xfrm>
            <a:off x="3838680" y="1422360"/>
            <a:ext cx="44672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emantic Patterns using Denotational Mapper and Genls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category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pattern&gt;WHO IS THE * OF *&lt;/pattern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guard&gt;(&lt;cycter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lter="BinaryPredicate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gt;&lt;star index="1"/&gt;&lt;/cycterm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space/&gt; &lt;cycterm&gt;&lt;star index="2"/&gt;&lt;/cycterm&gt;  ?REPLY)&lt;/guard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templa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believe &lt;cycsystem&gt;(cyc-query '(&lt;cycter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lter="BinaryPredicate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gt;&lt;star index="1"/&gt;&lt;/cycterm&gt; &lt;space/&gt; &lt;cycterm&gt;&lt;star index="2"/&gt;&lt;/cycterm&gt; ?REPLY) #$EverythingPSC)&lt;/cycsystem&gt; defines the &lt;cycterm filter="BinaryPredicate"&gt;&lt;star index="1"/&gt;&lt;/cycterm&gt; of &lt;cycterm&gt;&lt;star index="2"/&gt;&lt;/cycterm&gt;.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templa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categor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B lookup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ou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Bill Clinton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[ I believe</a:t>
            </a: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(((?REPLY . #$HillaryClinton))) defines the #$spouse of #$BillClinton.   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pul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Sweden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[ I believe</a:t>
            </a: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(((?REPLY . 8865051))) people live in Sweden.   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Bill Clinton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[A 20th century celebrity of some sort?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Madonna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[ I believe</a:t>
            </a: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Times New Roman"/>
              </a:rPr>
              <a:t>(((?REPLY . #$SeanPenn))) defines the #$mate of #$Madonna.   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yn-D Keypoints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s can utilize Cyc and AIML in their natural language proces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 events and data are reflected in the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tology is used to generate and infer game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 planning using Cyc’s representat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tools co-exist in the Java VM space utilizing both Cyc and Doom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RC: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otstrapp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earch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c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: To extend Cyc’s knowledge base us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“relationships implied to be possible, normal or commonplace in the world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or work with Cyc knowledge entry has been manually ori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will we collect commonsense without a body and manual labor…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, Parse, Min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: Read text, Parse into a database, Extract relations between words, Propose hypothetical relations between 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N-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 of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chitecture of CyN-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ing Cyc to AIML and D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C: Reading and finding conn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Common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method to mine for it using Cy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s of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hey fit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ture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at Is Common Knowledge 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an information channe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tion the Sender considers the Receiver to already kn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the Sender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ends the info then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eiver will consider the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to ‘lack intelligence or experience’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he sender is stupi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eiver will believe the sender thinks the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‘lacks intelligence or experience’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he sender thinks I’m stupid, and needs to tell m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ssibly the Sender is clarifying which among many possible common options they mean in this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both parties know the information to send it would generat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egative information content / wasted bandwid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s why it is hard to find common sense on the Intern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RC: Basic Analogy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otgun approach to the Human Gen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ct millions of frag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it them back together by finding commona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it work for the Human Meno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mes Burke: ‘Mr. Connections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ootstrapping with ResearchCyc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 has vocabulary about objects in the world and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 it always can use mo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C uses what Cyc already has + lots of parsed text to create new Cyc entries for common relationships found in the 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nat’s Bootstrap Hypothe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once Cyc reaches a certain level/scale it can help in its own development and start using NLP to augment its knowledge 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C should help test this hypo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BURC Process: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From seeds…Hypothe-seed’s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582560"/>
            <a:ext cx="75438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Rosetta link grammar parser for bulk parsing of text, primarily narratives based in ‘worlds like ours’.  Other text styles could be includ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es in two direction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ward from text to Cy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wards from existing CycL to the text to find new forward patte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RC Process - 2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 the link fragments into a database (1 and 2 link fragments), and compute frequency of fragment occurrences. The database will be in a SQL format so multiple queries can be formed dynamically. [Read Once/Use Many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Cyc knowledge as a starting point (the seeds), extract knowledge for use in Cyc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ven a set of seed facts in Cyc, identify how those facts are represented as link fragments in the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conjectures as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ew knowled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ew knowledge extraction patter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the fragment patter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RC Process - 3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Cyc knowledge directly to conjecture new state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 has lexical knowledge, which can be used as templates against the DB to form new stat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example, common adjectives applied to noun class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 knows “WhiteColor” and “Blouse” but does not know that white is a common blouse color, although it becomes apparent after reading some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tionally, gather supporting background statistics for hypothesis verification using other sour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haps Google desktop with a larger than fully parsed corp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haps check against answer extraction eng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522360"/>
            <a:ext cx="56386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ining Adjective Knowledge Example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82560"/>
            <a:ext cx="75438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 blouse” as factoid fra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Link Grammar format [white.a | a | blouse.n]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ly test using an internal or  search engine relevancy metric [GC=7040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djSemTrans White-TheWord 11 RegularAdjFrame  (mainColorOfObject :NOUN WhiteColor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sis 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ausibleValueOfType Blouse mainColorOfObject WhiteCol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low of Processing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Shape 100354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35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unning the system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a filtered set of the BNC (650 Meg of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parsers running in parallel for 70 hours generated 1.91 Gig of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d to 1 Gig of unique records with cou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83 Meg or 22 million fra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requency of Fragments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02240" y="137160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tribution of fragments follow a smooth curve in log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zipf distribution for words, characters and n-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Shape 132099" descr=""/>
          <p:cNvPicPr/>
          <p:nvPr/>
        </p:nvPicPr>
        <p:blipFill>
          <a:blip r:embed="rId1"/>
          <a:stretch/>
        </p:blipFill>
        <p:spPr>
          <a:xfrm>
            <a:off x="974880" y="1514520"/>
            <a:ext cx="3276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N:  SHRDLU (1970)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Shape 12291" descr=""/>
          <p:cNvPicPr/>
          <p:nvPr/>
        </p:nvPicPr>
        <p:blipFill>
          <a:blip r:embed="rId1"/>
          <a:stretch/>
        </p:blipFill>
        <p:spPr>
          <a:xfrm>
            <a:off x="1871640" y="1371600"/>
            <a:ext cx="532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Hunt for Common Fragments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ward mining was run over adjective links with more than one fragment and subject-verb with more than two fra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both cases this was approximately the top 15% for each search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ductions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Shape 134147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102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 source of potential knowledge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02240" y="1371240"/>
            <a:ext cx="370368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arious versions of Cyc have 10 to 20 assertions per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C generates 14.29 hypothetical assertions per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 to quantify the quality of BURC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Shape 102403" descr=""/>
          <p:cNvPicPr/>
          <p:nvPr/>
        </p:nvPicPr>
        <p:blipFill>
          <a:blip r:embed="rId1"/>
          <a:stretch/>
        </p:blipFill>
        <p:spPr>
          <a:xfrm>
            <a:off x="893880" y="1612800"/>
            <a:ext cx="37065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mantic Filtering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1920" y="1612800"/>
            <a:ext cx="7143840" cy="38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C can use Cyc’s knowledge of what things can perform what actions or have what attributes to filter out implausible relationships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#$behaviorCapableOf #$Finger #$CausingAnotherObjectsTranslationalMotion #$doneBy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(#$behaviorCapableOf #$Finger #$ChangeOfResidence #$performedB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(#$behaviorCapableOf #$Finger #$Inspecting #$performedBy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#$behaviorCapableOf #$Finger #$Movement-TranslationEvent #$primaryObjectMoving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#$behaviorCapableOf #$Finger #$MovementEvent #$primaryObjectMov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#$behaviorCapableOf #$Finger #$PushingAnObject #$providerOfMotiveForc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#$behaviorCapableOf #$Finger #$Sliding-Generic #$objectMoving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#$behaviorCapableOf #$Finger #$Sliding-Generic #$primaryObjectMov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#$behaviorCapableOf #$Finger #$Slipping #$objectMoving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#$behaviorCapableOf #$Finger #$Slipping #$primaryObjectMov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yc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lp in its own knowledge entry process. 62% of hypotheses can be filtered out using semantic filte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RC Future Work -1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y Cyc to utilize the extracted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estion generation (curiosity 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icing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parser and generate data in other knowledge formats (i.e. OpenMind/ConceptN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e better filtering methods for polysemous words in frag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synonyms and antonyms to expand hypothesis using Word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ine effect of reporting the unusual instead of the u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RC Future Work -2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dmissibility criteria. How much evidence is necessary to consider a fact worthy of addition to the KB as commonplac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performance relative to and in conjunction with volunteer commonsense knowledge entry pro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n interface for quick review of hypothesis by hum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e knowledge and experience on the backwards m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an we ever be “Done” 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definition of semantic coverage metrics for unmapped domai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ace of 2.4K of binary predicates applied to 85K constants provides a 16 trillion combination search space, only a fraction of would be considered part of ‘common knowledge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big space, but finite and within range of current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OOM: How does it all fit?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284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web common sense is mined using knowledge extraction and verified with simulation and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4266720" y="1219320"/>
            <a:ext cx="4769280" cy="5181480"/>
            <a:chOff x="4266720" y="1219320"/>
            <a:chExt cx="4769280" cy="5181480"/>
          </a:xfrm>
        </p:grpSpPr>
        <p:sp>
          <p:nvSpPr>
            <p:cNvPr id="173" name="Rectangle 92164"/>
            <p:cNvSpPr/>
            <p:nvPr/>
          </p:nvSpPr>
          <p:spPr>
            <a:xfrm>
              <a:off x="4267080" y="1219320"/>
              <a:ext cx="4768920" cy="5181480"/>
            </a:xfrm>
            <a:prstGeom prst="rect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lowchart: Alternate Process 92165"/>
            <p:cNvSpPr/>
            <p:nvPr/>
          </p:nvSpPr>
          <p:spPr>
            <a:xfrm>
              <a:off x="7148160" y="1610280"/>
              <a:ext cx="1788120" cy="3715200"/>
            </a:xfrm>
            <a:prstGeom prst="flowChartAlternate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D3Sim / Mirror Wor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lowchart: Alternate Process 92166"/>
            <p:cNvSpPr/>
            <p:nvPr/>
          </p:nvSpPr>
          <p:spPr>
            <a:xfrm>
              <a:off x="7346880" y="3565800"/>
              <a:ext cx="1390680" cy="1172880"/>
            </a:xfrm>
            <a:prstGeom prst="flowChartAlternate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I charac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lowchart: Internal Storage 92167"/>
            <p:cNvSpPr/>
            <p:nvPr/>
          </p:nvSpPr>
          <p:spPr>
            <a:xfrm>
              <a:off x="7446240" y="4053600"/>
              <a:ext cx="397440" cy="488880"/>
            </a:xfrm>
            <a:prstGeom prst="flowChartInternalStorage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lowchart: Process 92168"/>
            <p:cNvSpPr/>
            <p:nvPr/>
          </p:nvSpPr>
          <p:spPr>
            <a:xfrm>
              <a:off x="5856480" y="2783880"/>
              <a:ext cx="993240" cy="293400"/>
            </a:xfrm>
            <a:prstGeom prst="flowChart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I Prox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lowchart: Alternate Process 92169"/>
            <p:cNvSpPr/>
            <p:nvPr/>
          </p:nvSpPr>
          <p:spPr>
            <a:xfrm>
              <a:off x="4862880" y="2783880"/>
              <a:ext cx="695160" cy="488520"/>
            </a:xfrm>
            <a:prstGeom prst="flowChartAlternate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RCy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OCy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lowchart: Alternate Process 92170"/>
            <p:cNvSpPr/>
            <p:nvPr/>
          </p:nvSpPr>
          <p:spPr>
            <a:xfrm>
              <a:off x="4862880" y="3467880"/>
              <a:ext cx="695160" cy="488520"/>
            </a:xfrm>
            <a:prstGeom prst="flowChartAlternate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Cy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92171"/>
            <p:cNvSpPr/>
            <p:nvPr/>
          </p:nvSpPr>
          <p:spPr>
            <a:xfrm flipH="1">
              <a:off x="5558400" y="2881440"/>
              <a:ext cx="29808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92172"/>
            <p:cNvSpPr/>
            <p:nvPr/>
          </p:nvSpPr>
          <p:spPr>
            <a:xfrm flipH="1">
              <a:off x="5558400" y="2979000"/>
              <a:ext cx="298080" cy="48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92173"/>
            <p:cNvSpPr/>
            <p:nvPr/>
          </p:nvSpPr>
          <p:spPr>
            <a:xfrm flipV="1">
              <a:off x="5160960" y="3272040"/>
              <a:ext cx="360" cy="19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92174"/>
            <p:cNvSpPr/>
            <p:nvPr/>
          </p:nvSpPr>
          <p:spPr>
            <a:xfrm flipV="1">
              <a:off x="6850080" y="2881080"/>
              <a:ext cx="29808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lowchart: Alternate Process 92175"/>
            <p:cNvSpPr/>
            <p:nvPr/>
          </p:nvSpPr>
          <p:spPr>
            <a:xfrm>
              <a:off x="4862880" y="2001240"/>
              <a:ext cx="695160" cy="586440"/>
            </a:xfrm>
            <a:prstGeom prst="flowChartAlternate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U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92176"/>
            <p:cNvSpPr/>
            <p:nvPr/>
          </p:nvSpPr>
          <p:spPr>
            <a:xfrm>
              <a:off x="5160960" y="2588040"/>
              <a:ext cx="0" cy="19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lowchart: Magnetic Disk 92177"/>
            <p:cNvSpPr/>
            <p:nvPr/>
          </p:nvSpPr>
          <p:spPr>
            <a:xfrm>
              <a:off x="4465440" y="1415160"/>
              <a:ext cx="1589760" cy="390960"/>
            </a:xfrm>
            <a:prstGeom prst="flowChartMagneticDisk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lowchart: Magnetic Disk 92178"/>
            <p:cNvSpPr/>
            <p:nvPr/>
          </p:nvSpPr>
          <p:spPr>
            <a:xfrm>
              <a:off x="5757120" y="2001240"/>
              <a:ext cx="596160" cy="684000"/>
            </a:xfrm>
            <a:prstGeom prst="flowChartMagneticDisk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BURC 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92179"/>
            <p:cNvSpPr/>
            <p:nvPr/>
          </p:nvSpPr>
          <p:spPr>
            <a:xfrm>
              <a:off x="5558400" y="2294640"/>
              <a:ext cx="19872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Curved Connector 92180"/>
            <p:cNvCxnSpPr/>
            <p:nvPr/>
          </p:nvCxnSpPr>
          <p:spPr>
            <a:xfrm>
              <a:off x="4465440" y="1609920"/>
              <a:ext cx="398160" cy="6843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0" name="Curved Connector 92181"/>
            <p:cNvCxnSpPr/>
            <p:nvPr/>
          </p:nvCxnSpPr>
          <p:spPr>
            <a:xfrm>
              <a:off x="4465440" y="1611000"/>
              <a:ext cx="398160" cy="2102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1" name="Flowchart: Alternate Process 92182"/>
            <p:cNvSpPr/>
            <p:nvPr/>
          </p:nvSpPr>
          <p:spPr>
            <a:xfrm>
              <a:off x="7346880" y="2294640"/>
              <a:ext cx="1390680" cy="1172880"/>
            </a:xfrm>
            <a:prstGeom prst="flowChartAlternate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Ob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lowchart: Internal Storage 92183"/>
            <p:cNvSpPr/>
            <p:nvPr/>
          </p:nvSpPr>
          <p:spPr>
            <a:xfrm>
              <a:off x="7446240" y="2783160"/>
              <a:ext cx="397440" cy="488160"/>
            </a:xfrm>
            <a:prstGeom prst="flowChartInternalStorage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92184"/>
            <p:cNvSpPr/>
            <p:nvPr/>
          </p:nvSpPr>
          <p:spPr>
            <a:xfrm>
              <a:off x="6850080" y="2979000"/>
              <a:ext cx="596160" cy="127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iley Face 92185"/>
            <p:cNvSpPr/>
            <p:nvPr/>
          </p:nvSpPr>
          <p:spPr>
            <a:xfrm>
              <a:off x="7744320" y="5618880"/>
              <a:ext cx="496440" cy="390960"/>
            </a:xfrm>
            <a:prstGeom prst="smileyFace">
              <a:avLst>
                <a:gd name="adj" fmla="val 9282"/>
              </a:avLst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iley Face 92186"/>
            <p:cNvSpPr/>
            <p:nvPr/>
          </p:nvSpPr>
          <p:spPr>
            <a:xfrm>
              <a:off x="6552000" y="5520600"/>
              <a:ext cx="397440" cy="488880"/>
            </a:xfrm>
            <a:prstGeom prst="smileyFace">
              <a:avLst>
                <a:gd name="adj" fmla="val 9282"/>
              </a:avLst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lowchart: Alternate Process 92187"/>
            <p:cNvSpPr/>
            <p:nvPr/>
          </p:nvSpPr>
          <p:spPr>
            <a:xfrm>
              <a:off x="6353280" y="4347720"/>
              <a:ext cx="695160" cy="879840"/>
            </a:xfrm>
            <a:prstGeom prst="flowChartAlternate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d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92188"/>
            <p:cNvSpPr/>
            <p:nvPr/>
          </p:nvSpPr>
          <p:spPr>
            <a:xfrm flipV="1">
              <a:off x="6750720" y="5227560"/>
              <a:ext cx="0" cy="29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92189"/>
            <p:cNvSpPr/>
            <p:nvPr/>
          </p:nvSpPr>
          <p:spPr>
            <a:xfrm flipV="1">
              <a:off x="7048800" y="4347720"/>
              <a:ext cx="397440" cy="39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92190"/>
            <p:cNvSpPr/>
            <p:nvPr/>
          </p:nvSpPr>
          <p:spPr>
            <a:xfrm flipV="1">
              <a:off x="7943040" y="5129640"/>
              <a:ext cx="0" cy="48888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92191"/>
            <p:cNvSpPr/>
            <p:nvPr/>
          </p:nvSpPr>
          <p:spPr>
            <a:xfrm flipH="1" flipV="1">
              <a:off x="6949440" y="5716080"/>
              <a:ext cx="794880" cy="9756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lowchart: Magnetic Disk 92192"/>
            <p:cNvSpPr/>
            <p:nvPr/>
          </p:nvSpPr>
          <p:spPr>
            <a:xfrm>
              <a:off x="5757120" y="3369960"/>
              <a:ext cx="695520" cy="684000"/>
            </a:xfrm>
            <a:prstGeom prst="flowChartMagneticDisk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AIML K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92193"/>
            <p:cNvSpPr/>
            <p:nvPr/>
          </p:nvSpPr>
          <p:spPr>
            <a:xfrm flipH="1">
              <a:off x="5558400" y="3760920"/>
              <a:ext cx="19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92194"/>
            <p:cNvSpPr/>
            <p:nvPr/>
          </p:nvSpPr>
          <p:spPr>
            <a:xfrm>
              <a:off x="6850080" y="2979000"/>
              <a:ext cx="596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lowchart: Predefined Process 92195"/>
            <p:cNvSpPr/>
            <p:nvPr/>
          </p:nvSpPr>
          <p:spPr>
            <a:xfrm>
              <a:off x="7943040" y="4151880"/>
              <a:ext cx="695520" cy="293760"/>
            </a:xfrm>
            <a:prstGeom prst="flowChartPredefined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.scri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lowchart: Predefined Process 92196"/>
            <p:cNvSpPr/>
            <p:nvPr/>
          </p:nvSpPr>
          <p:spPr>
            <a:xfrm>
              <a:off x="7943040" y="2881440"/>
              <a:ext cx="695520" cy="293760"/>
            </a:xfrm>
            <a:prstGeom prst="flowChartPredefinedProcess">
              <a:avLst/>
            </a:prstGeom>
            <a:solidFill>
              <a:srgbClr val="ffffff">
                <a:alpha val="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Arial"/>
                </a:rPr>
                <a:t>.scri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traight Connector 92197"/>
            <p:cNvSpPr/>
            <p:nvPr/>
          </p:nvSpPr>
          <p:spPr>
            <a:xfrm>
              <a:off x="7843680" y="2979000"/>
              <a:ext cx="99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traight Connector 92198"/>
            <p:cNvSpPr/>
            <p:nvPr/>
          </p:nvSpPr>
          <p:spPr>
            <a:xfrm>
              <a:off x="7843680" y="4347720"/>
              <a:ext cx="99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Benefits (1)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C lets Cyc do what people always wanted: have the AI expands its knowledge by reading tex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rete cross domain training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s Cyc to the simulation, gaming and chatbot programmer commun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Cyc users with chatbots and 3D eng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test bed to answer: Is this a good interface model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ig Language Test: Can more people, describe and solve more problems, more easily with computer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n’t this what Turing was really afte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Benefits (2)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s towards the goal of “Holodeck characters” as an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ds Cyc’s  representation and interface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ing the D3 environment in Cy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and other planning can be simulated in the D3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for Cyc to “show” the user the results of its 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ling with a ‘messy’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Cyc with pers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chatbots with first-order 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HRLDU Dialog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box cont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LUE PYRAMID AND THE BLUE BLO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pyramid supported b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blocks are not in the box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OF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yN-D  and BURC Goals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applications of ResearchCy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 and expand the KB using natural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multiple interaction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 internal and external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 a goal , develop plans to achieve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ware of its capabilities and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ain its reasoning (more completely through the web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79228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57" name="Shape 179223" descr=""/>
          <p:cNvPicPr/>
          <p:nvPr/>
        </p:nvPicPr>
        <p:blipFill>
          <a:blip r:embed="rId2"/>
          <a:stretch/>
        </p:blipFill>
        <p:spPr>
          <a:xfrm>
            <a:off x="6019920" y="374796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Dramatic Improvement in Desktop Game Realism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Rectangle 179203" descr=""/>
          <p:cNvPicPr/>
          <p:nvPr/>
        </p:nvPicPr>
        <p:blipFill>
          <a:blip r:embed="rId3"/>
          <a:stretch/>
        </p:blipFill>
        <p:spPr>
          <a:xfrm>
            <a:off x="3200400" y="160020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79204" descr=""/>
          <p:cNvPicPr/>
          <p:nvPr/>
        </p:nvPicPr>
        <p:blipFill>
          <a:blip r:embed="rId4"/>
          <a:stretch/>
        </p:blipFill>
        <p:spPr>
          <a:xfrm>
            <a:off x="6019920" y="16002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79205" descr=""/>
          <p:cNvPicPr/>
          <p:nvPr/>
        </p:nvPicPr>
        <p:blipFill>
          <a:blip r:embed="rId5"/>
          <a:stretch/>
        </p:blipFill>
        <p:spPr>
          <a:xfrm>
            <a:off x="304920" y="374796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79206" descr=""/>
          <p:cNvPicPr/>
          <p:nvPr/>
        </p:nvPicPr>
        <p:blipFill>
          <a:blip r:embed="rId6"/>
          <a:stretch/>
        </p:blipFill>
        <p:spPr>
          <a:xfrm>
            <a:off x="3200400" y="3733920"/>
            <a:ext cx="2819520" cy="2114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79207"/>
          <p:cNvSpPr/>
          <p:nvPr/>
        </p:nvSpPr>
        <p:spPr>
          <a:xfrm>
            <a:off x="838080" y="6105600"/>
            <a:ext cx="80010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ttp://agents.media.mit.edu/projects/videogam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9213"/>
          <p:cNvSpPr/>
          <p:nvPr/>
        </p:nvSpPr>
        <p:spPr>
          <a:xfrm>
            <a:off x="3278880" y="17517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9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9214"/>
          <p:cNvSpPr/>
          <p:nvPr/>
        </p:nvSpPr>
        <p:spPr>
          <a:xfrm>
            <a:off x="6022080" y="17517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9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9215"/>
          <p:cNvSpPr/>
          <p:nvPr/>
        </p:nvSpPr>
        <p:spPr>
          <a:xfrm>
            <a:off x="307080" y="38998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9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9216"/>
          <p:cNvSpPr/>
          <p:nvPr/>
        </p:nvSpPr>
        <p:spPr>
          <a:xfrm>
            <a:off x="3202560" y="37472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99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9217"/>
          <p:cNvSpPr/>
          <p:nvPr/>
        </p:nvSpPr>
        <p:spPr>
          <a:xfrm>
            <a:off x="6012720" y="37670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9218"/>
          <p:cNvSpPr/>
          <p:nvPr/>
        </p:nvSpPr>
        <p:spPr>
          <a:xfrm>
            <a:off x="3296160" y="3433680"/>
            <a:ext cx="881640" cy="18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olfenstein 3D by 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9219"/>
          <p:cNvSpPr/>
          <p:nvPr/>
        </p:nvSpPr>
        <p:spPr>
          <a:xfrm>
            <a:off x="6101640" y="3409920"/>
            <a:ext cx="601200" cy="18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OM by 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9220"/>
          <p:cNvSpPr/>
          <p:nvPr/>
        </p:nvSpPr>
        <p:spPr>
          <a:xfrm>
            <a:off x="387000" y="5557680"/>
            <a:ext cx="589320" cy="18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Quake by 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9221"/>
          <p:cNvSpPr/>
          <p:nvPr/>
        </p:nvSpPr>
        <p:spPr>
          <a:xfrm>
            <a:off x="3281400" y="5543640"/>
            <a:ext cx="674640" cy="18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Quake III by 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9222"/>
          <p:cNvSpPr/>
          <p:nvPr/>
        </p:nvSpPr>
        <p:spPr>
          <a:xfrm>
            <a:off x="6101280" y="5576760"/>
            <a:ext cx="665280" cy="18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OM 3 by 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9227"/>
          <p:cNvSpPr/>
          <p:nvPr/>
        </p:nvSpPr>
        <p:spPr>
          <a:xfrm>
            <a:off x="464040" y="3352680"/>
            <a:ext cx="781200" cy="18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ogue-Adven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9226"/>
          <p:cNvSpPr/>
          <p:nvPr/>
        </p:nvSpPr>
        <p:spPr>
          <a:xfrm>
            <a:off x="459360" y="1675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8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W : CyN in Doom3 (2005)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Shape 10243" descr=""/>
          <p:cNvPicPr/>
          <p:nvPr/>
        </p:nvPicPr>
        <p:blipFill>
          <a:blip r:embed="rId1"/>
          <a:stretch/>
        </p:blipFill>
        <p:spPr>
          <a:xfrm>
            <a:off x="1851120" y="1371600"/>
            <a:ext cx="53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asic Idea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uld SHRDLU 2005 look li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modern inference engines, natural language processing and si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archCyc version of Cyc commonsense reasoning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yN AIML driven language front-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om3 game engine for 3D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ing all of them ‘properly’ is the real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an easy to use, interactive agent system in a 3D environment that is exten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yN-D development Goal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1)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 pattern based parser for use with Cyc tools suitable for chatbots / virtual human experimentation and basic knowledge entry of logical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n interpreter that allowed an easy way to interface AIML to Cyc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 set of example AIML categories to answer questions using Cyc too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 toolkit for experimentation with both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yN-D development Goals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2)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a natural language front-end ahead of the current Cyc tool release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a tool capable of creating a “personality” for Cyc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scaleable (AIML sets have 40,000 language patterns and full Cyc has 1.6 million fac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a tool that can be integrated with other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low-cost and op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riginal CyN is open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orp adopted white paper 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ving in Cy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: Mating AIML and Cyc Together in Program N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cyc.com/doc/white_papers/Cyn_description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2:32:11Z</dcterms:created>
  <dc:creator> Kino Corusey</dc:creator>
  <dc:description/>
  <dc:language>en-US</dc:language>
  <cp:lastModifiedBy>root</cp:lastModifiedBy>
  <dcterms:modified xsi:type="dcterms:W3CDTF">2006-09-17T01:04:14Z</dcterms:modified>
  <cp:revision>29</cp:revision>
  <dc:subject/>
  <dc:title>CyN-D : Walking and talking with Cyc </dc:title>
</cp:coreProperties>
</file>