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5FC0-F2E8-48ED-8131-AA4037608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DEC0-FEE1-4556-B7C5-A18D5D986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546-4886-4024-B768-F5A9D0A4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5851-54FC-486E-A0AF-95810DFC4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C551-4DDF-4883-9835-CC6ED82E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A513-184A-4FAF-9C56-5915F994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D71E-6958-4FDE-BF4D-F6022C859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E40D-E39F-4DF4-B305-41F1C95C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E4D4-4842-4AD9-A7FD-C3C7EA19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06C0-358A-41B3-B603-9CC9068F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4B0-AFA0-4D6E-9E32-0E5C23C6F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D140-FED0-42E3-989B-B0D19D223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3F90-9A3E-4FE1-B415-54DD7FDD0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5BB6-3F4F-4A23-9D1D-979DD893C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EEC-5C91-4C4D-8894-0E203EAB2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43B6-CB36-408A-909B-AE6F3ECF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07B-7F37-47CE-9AC5-179E0A70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3A7-7067-4C95-9C5E-60FCFA583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7BC-6B7A-4F78-91C7-B35DF93B1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6C4-E508-4EFC-A86D-7004E3F36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A31D-F712-4FE2-AA48-C6A422EDA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AF25-2FD2-45BF-BC43-7C0C2A9C9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AF86-A556-4103-BD69-D73DAA50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FE48-4E99-48BA-9CE3-5EE90919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4A16-1971-4C96-AC0E-71B495B88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F7D-2A77-45D3-9458-7143E059D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B23-B15E-4CFB-8C26-1FB3F9625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C73-5440-4954-A055-9088DCCFB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1CE5-6A96-4889-9FE1-55A5300B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D909-77FB-421C-B403-205421AF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BE1-BC10-4E69-9106-41CB5132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02A6-C277-4C70-844A-630242DDF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D200-8F54-4859-B889-0B1AAC615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33D-782E-429B-84C8-1126A67E7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96E4-07DB-4A42-9B9D-5227F32F7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75C-9B70-4827-97DA-EE16CD76F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BFF0-A0DB-4791-BAB1-02686635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B429-3F7B-48E5-BA53-44CC40BFC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582F-CD14-4B92-840C-ACE97B90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9BAC-0635-4843-9371-4A820D6E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DADC-D3E4-4094-A205-9D1F876D7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43F2-AC4A-405E-B5E0-6B121812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5CA0-777A-48EF-A579-3FA4330A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509B-8620-4BDD-A971-AA0A2E1C0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9A3-C1AE-46E6-B6CB-7DC4FE2A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7940-D9D2-4FDF-87B2-BD02AA1F9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F04-37CD-4EF4-95BB-0E1EBCC49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BF5-12B4-4996-AC51-67B0D9DE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80EA-DA74-401F-B245-99BA6CAB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4271-DF83-4BE2-B4E6-1136A6E2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549-0034-46DC-B043-A227B7FD3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6334-653D-4E4A-9E59-620CE4228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4DFA-5A8C-4AFE-9C61-E769EB85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F2A1-43F4-42B2-B596-5B980DC2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6F8C-4813-47F8-B70B-AB36008F9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B9D9-949F-49EF-ACE0-2CFA9F26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3E3-9330-4D87-A758-3D51B691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AC0A-C829-4189-ACCE-7B8D30C0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D7A1-0E9A-4507-A1C0-0888EBB8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EC5-0520-4AF1-94B9-45E8F1E0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127-C489-41AA-9163-A877D3D7D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1A55-FF4F-496F-9263-0270D5DC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9860-376D-4E9F-819A-5155E594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0D83-A750-4792-95F1-034017B5C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652D-ECAB-42E3-A1E9-E45F062F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B454-2FBE-44C1-94F0-3CBBE9B9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0C0D-CB86-4532-B0DE-08AE9B94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8FC-48FC-4FD2-939F-B409FEC4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0B5E-B654-4D4D-A77A-6815783C1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E05-DC0D-431E-8833-915250814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61B8-C85B-40F9-A066-93ED7B979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D4B4-3FBA-48BE-A1F3-47928F4F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C2F6-F9D8-4E25-AF9B-B8817278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CBF6-45E0-4CA8-85CF-79BE4059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4D2A-E479-4DCA-B8C1-3185967B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4EFF-44E8-4F72-9D57-1D9A57D94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7D99-9A1E-4E2F-AFED-F209ABA35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1D3E-E6FA-4C43-BAA2-B874DFCDF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A173-04CC-4FD0-AD76-1AD28E5B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9277-0D4E-43D5-AFAD-9E6C2C295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4F32-B623-412C-A682-C9B039BDD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2312-D8DE-454C-911D-4F26B4934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6C80-5EF4-4668-B456-0E719ECA9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D1A2-2BB8-48C7-B35E-F5B9F67DA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4E04-6B88-4C1C-8F3C-ADDF49885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C8FB-BBAA-4D1B-B504-A5BE9C9B7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54EB-128C-4FC5-B0BB-D7069B38B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9199-1041-4967-8853-1DDDDC9C3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A862-AC93-4CFF-BF15-C8EF333F5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13F5-5603-493D-92D3-231A5CFFC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B730-3FC5-4455-8B94-2F296FBC6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F0E3-5788-4307-8A37-BFC71E437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45FF-DEAA-4975-BB10-A6797E578C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ropositional and First-Order Logic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7.4-7.5, 7.7, 8.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8.3, 8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S 6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105520" y="579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material adopted from notes and slides by Tim Finin, Marie desJardins, Andreas Geyer-Schulz and Chuck D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th tables 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img16"/>
          <p:cNvPicPr/>
          <p:nvPr/>
        </p:nvPicPr>
        <p:blipFill>
          <a:blip r:embed="rId1"/>
          <a:stretch/>
        </p:blipFill>
        <p:spPr>
          <a:xfrm>
            <a:off x="304920" y="2209680"/>
            <a:ext cx="8381880" cy="152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img17"/>
          <p:cNvPicPr/>
          <p:nvPr/>
        </p:nvPicPr>
        <p:blipFill>
          <a:blip r:embed="rId2"/>
          <a:stretch/>
        </p:blipFill>
        <p:spPr>
          <a:xfrm>
            <a:off x="380880" y="472428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07360" y="15652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ve logical conn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86920" y="40798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lex sent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s of complex sent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img19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erence ru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gical in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create new sentences that logically follow from a given set of predicate calculus sentences (K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ference rule i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very sentence X produced by an inference rule operating on a KB logically follows from the KB. (That is, the inference rule does not create any contradi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ference rule i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is able to produce every expression that logically follows from (is entailed by) the KB. (Note the analogy to complete search algorithm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nd rules of infere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are some examples of sound rules of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ule is sound if its conclusion is true whenever the premise i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n be shown to be sound using a 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MIS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s Pon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t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li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Neg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Re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esolution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B, </a:t>
            </a:r>
            <a:r>
              <a:rPr b="1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ndness of modus pone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ndness of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olution inference rul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img28"/>
          <p:cNvPicPr/>
          <p:nvPr/>
        </p:nvPicPr>
        <p:blipFill>
          <a:blip r:embed="rId1"/>
          <a:stretch/>
        </p:blipFill>
        <p:spPr>
          <a:xfrm>
            <a:off x="304920" y="2209680"/>
            <a:ext cx="86104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ng thing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quence of sentences, where each sentence is either a premise or a sentence derived from earlier sentences in the proof by one of the rules of infer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sente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so called goal or query) that we want to 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for the “weather problem” give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um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It is humi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Humi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If it is humid, it is ho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H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s Ponens(1,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It is ho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(Ho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id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If it’s hot &amp; humid, it’s rain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Ho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ntroduction(1,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It is hot and humi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s Ponens(4,5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It is rain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rn sent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rn sent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rn cla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3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lterna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3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Ps and Q are non-negated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a proof for Horn sentences, apply Modus Ponens repeatedly until nothing can b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the Horn clause form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715000" y="3003480"/>
            <a:ext cx="2971800" cy="459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P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Q)  = (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ailment and deri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ilment: KB |=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entailed by KB (a set of premises or assumptions) if and only if there is no logically possible world in which Q is false while all the premises in KB are tr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stated positively, Q is entailed by KB if and only if the conclusion is true in every logically possible world in which all the premises in KB  are tr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 KB |-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derive Q from KB if there is a proof consisting of a sequence of valid inference steps starting from the premises in KB and resulting i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important properties for infer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ness: If KB |- Q then KB |=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Q is derived from a set of sentences KB using a given set of rules of inference, then Q is entailed by K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inference produces only real entailments, or any sentence that follows deductively from the premises is val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ness: If KB |= Q then KB |-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Q is entailed by a set of sentences KB, then Q can be derived from KB using the rules of infer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inference produces all entailments, or all valid sentences can be proved from the premis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ropositional Logic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itional logic is a weak langu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identify “individuals” (e.g., Mary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directly talk about properties of individuals or relations between individuals (e.g., “Bill is tall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s, patterns, regularities can’t easily be represented (e.g., “all triangles have 3 side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Logic (abbreviated FOL or FOPC) is expressive enough to concisely represent this kind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 adds relations, variables, and quantifiers, 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360" indent="-111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ry elephant is gray”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(elephant(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y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4360" indent="-111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re is a white alligator”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(alligator(X) ^ white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problem of representing the following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erson is mor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cius is a per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cius is mortal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these sentences be represented so that we can infer the third sentence from the first tw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 I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L we have to create propositional symbols to stand for all or part of each sentence. For example, we might ha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“person”; Q = “mortal”; R = “Confuciu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e above 3 sentences are represented 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;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;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the third sentence is entailed by the first two, we needed an explicit symbol, R, to represent an individual, Confucius, who is a member of the classes “person” and “mort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present other individuals we must introduce separate symbols for each one, with some way to represent the fact that all individuals who are “people” are also “mort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Hunt the Wumpus”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tomic pro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2 = There is a stench in cell (1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34 = There is a breeze in cell (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22 = The Wumpus is in cell (2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11 = We have visited cell (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K11 = Cell (1,1) is sa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2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3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4)    S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lack of variables requires us to give similar rules for each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the third mo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30481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prove that the Wumpus is in (1,3) using the four rules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R&amp;N section 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img29"/>
          <p:cNvPicPr/>
          <p:nvPr/>
        </p:nvPicPr>
        <p:blipFill>
          <a:blip r:embed="rId1"/>
          <a:stretch/>
        </p:blipFill>
        <p:spPr>
          <a:xfrm>
            <a:off x="3352680" y="2057400"/>
            <a:ext cx="5645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ng W1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MP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1  and  R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nd-Elimination to this, yielding 3 sentenc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MP to ~S21 and  R2, then apply And-elimin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22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3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MP to S12 and  R4 to obtai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Unit resolution on  (W1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2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11)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1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Unit Resolution with (W1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1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22)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2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UR with (W1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12)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1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 with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itional Wumpus hunte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variables prevents stating more gener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a set of similar rules for each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of the KB over time is difficult to re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echnique is to index facts with the time when they’r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have a separate KB for every tim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cess of deriving new sentences from old one is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ference processes derives true conclusions given true prem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ference processes derive all true conclusions from a set of prem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id sent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ue in all worlds under all interpre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implication sentence can be shown to be valid, 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its prem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onsequent can be der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logics make differ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bout what the world is made of and what kind of beliefs we can have regarding the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s are useful for the commitments they do not make because lack of commitment gives the knowledge base engineer more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sitional log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its only to the existence of facts that may or may not be the case in the world being re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has a simple syntax and simple semantics. It suffices to illustrate the process of i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itional logic quickly becomes impractical, even for very small wor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irst-Order Logic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ord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, relations, functions, quantifier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, sentences, axioms, theories, proof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to first-ord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x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change: situation calculus, fram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ences on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-based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ositional logi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l const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rue, fa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itional symb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, Q, S, ...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sente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 …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are combin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conjunct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disjunct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impl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mplication / condition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is equival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icondition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negat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omic sentence or negated atomic 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-order logi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logic (FOL) models the world in term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bject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are things with individual id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objects that distinguish them from oth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l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hold among se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unction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are a subset of relations where there is only one “value” for any given “inpu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: Students, lectures, companies, cars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: Brother-of, bigger-than, outside, part-of, has-color, occurs-after, owns, visits, precedes,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: blue, oval, even, large,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: father-of, best-friend, second-half, one-more-than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r provid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98000" indent="-19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symbol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represent individuals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000" indent="-19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symbol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map individuals to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-of(Mary) = 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-of(Sky) = B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000" indent="-19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icate symbol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map individuals to tru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(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(Gra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8600" indent="-199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(Grass, Gree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L Provid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riable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x,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n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in PL: no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impli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if and only if (bicondition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ua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tia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s are built from terms and ato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enoting a real-world individual) is a constant symbol, a variable symbol, or an n-place function of n ter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and 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re terms, where each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ter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erm with no variables is a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round te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sent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ch has value true or false) is an n-place predicate of 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ex sen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med from atomic sentences connected by the logical conn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,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,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,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,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where P and Q are 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uantified sen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s quantifi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ll-formed formul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ntence containing no “free” variables. That is, all variables are “bound” by universal or existential quantifi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P(x,y) has x bound as a universally quantified variable, but y is fre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NF for F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 := &lt;Sentence&gt;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entence&gt; := &lt;AtomicSentence&gt;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entence&gt; &lt;Connective&gt; &lt;Sentence&gt;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Quantifier&gt; &lt;Variable&gt;,... &lt;Sentence&gt;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NOT" &lt;Sentence&gt;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(" &lt;Sentence&gt; ")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omicSentence&gt; := &lt;Predicate&gt; "(" &lt;Term&gt;, ... ")"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erm&gt; "=" &lt;Term&gt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erm&gt; := &lt;Function&gt; "(" &lt;Term&gt;, ... ")"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stant&gt;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Variable&gt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nective&gt; := "AND" | "OR" | "IMPLIES" | "EQUIVALEN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Quantifier&gt; := "EXISTS" | "FORALL"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onstant&gt; := "A" | "X1" | "John" | ...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Variable&gt; := "a" | "x" | "s" | ...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edicate&gt; := "Before" | "HasColor" | "Raining" | ...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unction&gt; := "Mother" | "LeftLegOf" | ...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ivers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a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P(x) means that P hol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of x in the domain associated with tha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dolphin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mmal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ist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)P(x) means that P hol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of x in the domain associated with tha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) mammal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ys-egg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s one to make a statement about some object without na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05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quantifiers are often used with “implies” to form “rule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 student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mart(x) means “All students are sm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quantifica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re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make blanket statements about every individual in the wor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student(x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(x) means “Everyone in the world is a student and is sm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tial quantifiers are usually used with “and” to specify a list of properties about an individ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 student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mart(x) means “There is a student who is sm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mistake is to represent this English sentence as the FOL sent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 student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mart(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4000" indent="-201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at happens when there is a person who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stu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antifier Scop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ing the order of universal quantifi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ge the mea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P(x,y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switch the order of existential quantif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P(x,y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ing the order of universals and existentia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ge mea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likes someone: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 likes(x,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is liked by everyone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likes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nections between All and Exis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late sentences involv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De Morgan’s la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P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P(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P(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antified inference ru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insta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B)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tial insta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)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kolem constant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tial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PL sent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6324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me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It is ho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me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It is humi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me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It is rain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hot and humid, then it is rai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humid, then it is ho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 = “It is h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id = “It is humi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ning = “It is rai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versal instanti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.k.a. universal eliminatio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(x) is true, then P(C) is true, where C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ant in the domain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eats(Zigg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ts(Ziggy, IceC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 symbol can be replaced by any ground term, i.e., any constant symbol or function symbol applied to ground term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istential instanti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.k.a. existential eliminatio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(x) infer P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-219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eats(Ziggy, 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ts(Ziggy, Stu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variable is replaced by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rand-new 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occurring in this or any other sentence in the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known as skolemization; constant is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olem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we don’t want to accidentally draw other inferences about it by introducing the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ient to use this to reason about the unknown object, rather than constantly manipulating the existential qua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istential generaliz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.k.a. existential introductio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(c) is true, the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P(x) is infer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s(Ziggy, IceCrea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eats(Ziggy,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stances of the given constant symbol are replaced by the new variable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variable symbol cannot already exist anywhere in th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lating English to F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ry gardener likes the s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gardene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ikes(x,Su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an fool some of the people all of th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 person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(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-fool(x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an fool all of the people some of th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(person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(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-fool(x,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(person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(time(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-fool(x,t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purple mushrooms are poison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(mushroom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urple(x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isonous(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purple mushroom is poisono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purple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shroom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isonous(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 (mushroom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urple(x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sonous(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are exactly two purple mushroo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mushroom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urple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shroom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urple(y) ^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=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mushroom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urple(z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(x=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y=z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ton is not t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ll(Clint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is above Y iff X is on directly on top of Y or there is a pile of one or more other objects directly on top of one another starting with X and ending with 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above(x,y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n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on(x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ove(z,y)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171480" y="2666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H="1" flipV="1">
            <a:off x="5334120" y="28191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5334120" y="2971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628680" y="41148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5791320" y="42670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5791320" y="441972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nty Python and The Art of Fallac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r Bedevere the 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ster of (odd)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g Arth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llager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tch-h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llager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x-new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llager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e-line wo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rest of you scoundrels, mongrels, and nere-do-w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example from Monty Pyth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ay of Russell &amp; Norvi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VILLAG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have found a witch. May we burn 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itch! Burn h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DEVE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y do you think she is a wi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VILLAG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e turn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 new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fter looking at himself for some tim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 got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rn her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t! Quiet! There are ways of telling whether she is a 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ty Python con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ll me… what do you do with witc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what do you burn, apart from witc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Villag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w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y do witches b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fter a be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cause they’re made of wo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ee. Yes, of cou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ty Python con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: So how can we tell if she is made of w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1: Make a bridge out o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Ah… but can you not also make bridges out of st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, of course… um… 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wood sink in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, it floats. Throw her in the p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. Wait… tell me, what also floats on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ead? No, no no. Apples… gravy… very small ro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, n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ty Python con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G ARTHU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du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hey all turn and look at Arthur. Bedevere looks up, very impress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ly. So… logic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eginning to pick up the threa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f she… weighs the same as a duck… she’s made of w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ref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wit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ty Python Fallacy 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witch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rn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woo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rn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witch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od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                            Fallacy: Affirming the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ositional logic (P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language useful for showing key ideas and defin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efines a set of propositional symbols, like P and Q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efine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propositional symb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means “It is h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means “It is humi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means “It is rai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tence (well formed formula) is defined as follow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mbol is a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 is a sentence, t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is a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 is a sentence, then (S) is a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 and T are sentences, then (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), (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), (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), and (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) are 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ntence results from a finite number of applications of the above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ty Python Near-Fallacy #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-build-bridge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-build-bridg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od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Ah… but can you not also make bridges out of st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ty Python Fallacy #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wood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at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duck-weight 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at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duck-weight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od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ty Python Fallacy #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light(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od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(W)                                 ok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ch(W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od(W)               applying universal insta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to fallacious conclus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ch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A simple genealogy KB by F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a small genealogy knowledge base using FOL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facts of immediate family relations (spouses, parent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definitions of more complex relations (ancestors, relativ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able to answer queries about relationships between 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ic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(x, y), child(x, y), father(x, y), daughter(x, y)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ouse(x, y), husband(x, y), wife(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cestor(x, y), descendant(x, 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le(x), female(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ve(x, 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usband(Joe, Mary), son(Fred, Jo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ouse(John, Nancy), male(John), son(Mark, Nanc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her(Jack, Nancy), daughter(Linda, Jac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ughter(Liz, Lin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 for genealogical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parent(x,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ild (y,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father(x,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ent(x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le(x) (similarly for mother(x, 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daughter(x,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ild(x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emale(x) (similarly for son(x, 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husband(x,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ouse(x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le(x) (similarly for wife(x, 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spouse(x,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ouse(y, x) 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ouse relation is symmet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parent(x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cestor(x, 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) parent(x, z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cestor(z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cestor(x, 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descendant(x,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cestor(y, 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) ancestor(z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cestor(z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ve(x, 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ed by common ances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spouse(x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ve(x, y) (related by marri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) relative(z, 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ve(z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ve(x, y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i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) relative(x, 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ve(y, x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ymmet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estor(Jack, Fred)   /* the answer is ye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(Liz, Joe)        /* the answer is ye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(Nancy,  Matthew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no answer in general, no if under closed world assumption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) ancestor(z, Fred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cestor(z, Li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oms for Set Theory in F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only sets are the empty set and those made by adjoining something to a s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set(s) &lt;=&gt; (s=EmptySet) v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r Set(r) ^ s=Adjoin(s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empty set has no elements adjoined to i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s Adjoin(x,s)=Empty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Adjoining an element already in the set has no effec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s Member(x,s) &lt;=&gt; s=Adjoin(x,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The only members of a set are the elements that were adjoined into i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s Member(x,s) &lt;=&gt;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,r (s=Adjoin(y,r) ^ (x=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mber(x,r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A set is a subset of another iff all of the 1st set’s members are members of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r Subset(s,r) &lt;=&gt;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Member(x,s) =&gt; Member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Two sets are equal iff each is a subset of the oth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r (s=r) &lt;=&gt; (subset(s,r) ^ subset(r,s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Inters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s1,s2 member(X,intersection(S1,S2)) &lt;=&gt; member(X,s1) ^ member(X,s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Un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s1,s2 member(X,union(s1,s2)) &lt;=&gt; member(X,s1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mber(X,s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antics of F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main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all objects in the world (of inter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pretation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each constant to an object in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each function of n arguments as a mapping 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&gt;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each predicate of n arguments as a mapping 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&gt; {T, F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fore, every ground predicate with any instantiation will have a truth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general there is an infinite number of interpretations because |M| is infin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fine logical connec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~, ^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=&gt;, &lt;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in 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fine semantics of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x) and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) P(x) is true iff P(x) is true under all interpret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) P(x) is true iff P(x) is true under some interpre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d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pretation of a set of sentences such that every sentenc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nte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275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atisfia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it is true under some interpre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275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vali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it is true under all possible interpre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275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inconsist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re does not exist any interpretation under which the sentence i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3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gical consequ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|= X if all models of S are als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oms, definitions and theor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9800" indent="-109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xi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acts and rules that attempt to capture all of the (important) facts and concepts about a domain; axioms can be used to prov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600" indent="-122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ematicians don’t want any unnecessary (dependent) axio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s that can be derived from other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600" indent="-122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axioms can make reasoning faster, how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600" indent="-122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ing a good set of axioms for a domain is a kind of desig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9800" indent="-109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predicate is of the form “p(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” and can be decomposed into two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600" indent="-1224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cess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cription: “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600" indent="-1224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ffic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cription “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600" indent="-122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concepts don’t have complete definitions (e.g., person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on defin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necess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dition must be satisfied for a statement to be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ufficient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, if satisfied, assures the statement’s tru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ality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 is sufficient for Q” is the same as “Q is necessary for P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 define father(x, y) by parent(x, y) and male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(x, y) is a necessary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not suffic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scrip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(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rent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(x, y) ^ male(x) ^ age(x, 35)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ffic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not necess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scription of father(x, 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(x, 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ent(x, y) ^ male(x) ^ age(x, 3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(x, y) ^ male(x)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essary and suffic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cription of father(x, 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(x, y) ^ male(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ther(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NF grammar of sentences in propositional logic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&lt;Sentence&gt;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entence&gt; := &lt;AtomicSentence&gt; | &lt;ComplexSentence&gt;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tomicSentence&gt; := "TRUE" | "FALSE"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P" | "Q" | "S"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mplexSentence&gt; := "(" &lt;Sentence&gt; ")"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entence&gt; &lt;Connective&gt; &lt;Sentence&gt;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NOT" &lt;Sentence&gt;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nnective&gt; := "NOT" | "AND" | "OR" | "IMPLIES" | "EQUIVALENT"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36520" y="371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on defin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3209760" y="1324080"/>
            <a:ext cx="1171800" cy="11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3457440" y="1557360"/>
            <a:ext cx="628920" cy="600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915080" y="1414440"/>
            <a:ext cx="94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H="1">
            <a:off x="3886200" y="1643040"/>
            <a:ext cx="11145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 flipH="1">
            <a:off x="4200480" y="2085840"/>
            <a:ext cx="81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28800" y="1371600"/>
            <a:ext cx="1942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) is a necessary condition of P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867280" y="1552680"/>
            <a:ext cx="23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) =&gt; S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3247920" y="2705040"/>
            <a:ext cx="1171800" cy="11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3495600" y="2938320"/>
            <a:ext cx="628560" cy="600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952880" y="2795760"/>
            <a:ext cx="9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 flipH="1">
            <a:off x="3924000" y="3024360"/>
            <a:ext cx="1114200" cy="18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H="1">
            <a:off x="4238640" y="3467160"/>
            <a:ext cx="81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966960" y="2752560"/>
            <a:ext cx="1942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) is a sufficient condition of P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905440" y="293364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) &lt;= S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3257640" y="4314960"/>
            <a:ext cx="1171440" cy="1128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962600" y="4405320"/>
            <a:ext cx="94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 flipH="1">
            <a:off x="4390920" y="4633920"/>
            <a:ext cx="657360" cy="1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4433400" y="5076720"/>
            <a:ext cx="6289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976320" y="4362480"/>
            <a:ext cx="1942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) is a necessary and sufficient condition of P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5915160" y="4543560"/>
            <a:ext cx="23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) &lt;=&gt; S(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-order log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 only allows to quantify over variables, and variables can only range over ob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 allows us to quantify ov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(quantify over fun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unctions are equal iff they produce the same value for all argumen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 (f = g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f(x) = g(x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(quantify over predic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 transitive( r 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yz) r(x,y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(y,z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(x,z)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expressive, b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cid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re isn’t an effective algorithm to decide whether all sentences are val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-order logic is decidable only when it uses predicates with only one arg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ressing unique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we want to say that there is a single, unique object that satisfies a certai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exists a unique x such that king(x) is tru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king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(king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=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king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(king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 x king(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country has exactly one rul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country(c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 r ruler(c,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ta operator: 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(x)” means “the unique x such that p(x) is tr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nique ruler of Freedonia is d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ruler(freedoni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ational differ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symb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, or, not, implie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v (q ^ 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+ (q *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(X) :- furry(X), meows (X), has(X, cla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py 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all ?x (implies (and (furry ?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eows ?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s ?x claw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t ?x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agents for the Wumpus Worl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(non-exclusive) agent archite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rules that classify situations, specifying how to react to each possible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base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an internal model of their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-base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goals and try to achiev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simple reflex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p percepts into observ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,g,u,c,t Percept([Stench, b, g, u, c], 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ench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g,u,c,t Percept([s, Breeze, g, u, c], 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eze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b,u,c,t Percept([s, b, Glitter, u, c], 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Gold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an action given observ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AtGold(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on(Grab, 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difficul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limb. There is no percept that indicates the agent should climb 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osition and holding gold are not part of the percept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percept will be repeated when you return to a square, which should cause the same response (unless we maintain so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rnal model of the wor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resenting chan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change in the world in logic can be tric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is just to change the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nd delete sentences from the KB to reflect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remember the past, or reason about 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tuation calcu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other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t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napshot of the world at some insta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agent performs an action A                    in situation S1, the result is a new                situation S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img11"/>
          <p:cNvPicPr/>
          <p:nvPr/>
        </p:nvPicPr>
        <p:blipFill>
          <a:blip r:embed="rId1"/>
          <a:stretch/>
        </p:blipFill>
        <p:spPr>
          <a:xfrm>
            <a:off x="5334120" y="3429000"/>
            <a:ext cx="38098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tu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3" descr="img11"/>
          <p:cNvPicPr/>
          <p:nvPr/>
        </p:nvPicPr>
        <p:blipFill>
          <a:blip r:embed="rId1"/>
          <a:stretch/>
        </p:blipFill>
        <p:spPr>
          <a:xfrm>
            <a:off x="1447920" y="533520"/>
            <a:ext cx="678168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tuation calcul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itu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snapshot of the world at an interval of time during which nothing chan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true or false statement is made with respect to a particular situ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ituation variab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every predic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(Agent,1,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om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(Agent,1,1,s0): at(Agent,1,1) is true in situation (i.e., state) s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ly, add a special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order predicate,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holds(f,s)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means “f is true in situation s.” E.g., holds(at(Agent,1,1),s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 new function,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sult(a,s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maps a situation s into a new situation as a result of performing action a. For example, result(forward, s) is a function that returns the successor state (situation) to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The action agent-walks-to-location-y could be represen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)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)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) (at(Agent,x,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box(s)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(Agent,y,result(walk(y),s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ducing hidden proper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perceptual information we obtain in situations, we c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er properties of lo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s at(Agent,l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eze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ezy(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,s at(Agent,l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ench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melly(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Breezy nor Smelly need situation arguments because pits and Wumpuses do not mov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me ter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ing 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sentence determines it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pre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truth values of all symbols in a sentence, it can be “evaluated” to determine it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rue or Fals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 KB is a “possible world” (assignment of truth values to propositional symbols) in which each sentence in the KB is Tr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ducing hidden properties I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write some rules that relate various aspects of a single world state (as opposed to across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main kinds of such ru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usal ru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lect the assumed direction of causality in the worl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1,l2,s) At(Wumpus,l1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jacent(l1,l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elly(l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1,l2,s) At(Pit,l1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jacent(l1,l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reezy(l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 that reason with causal rules are call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odel-based                  reason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agnostic ru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er the presence of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idden prope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ly from the percept-derived information. We have already seen two diagnostic r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,s) At(Agent,l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reeze(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reezy(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,s) At(Agent,l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ench(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elly(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resenting chang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rame probl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ame axi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property x doesn’t change as a result of applying action a in state s, then it stay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(x, z, 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ear (x, 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(x, table, Result(Move(x, table), s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(x, z, Result (Move (x, table), 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(y, z, 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(y, z, Result (Move (x, table), 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liferation of frame axioms becomes very cumbersome in complex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frame problem I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ccessor-state axi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eneral statement that characterizes every way in which a particular predicate can becom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ther it can 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it c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ready be true and not be chang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(x, table, Result(a,s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On (x, z, 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ear (x, 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= Move(x, table)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On (x, table, 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ve (x, z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mplex worlds, where you want to reason about longer chains of action, even these types of axioms are too cumber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 systems use special-purpose inference methods to reason about the expected state of the world at any point in time during a multi-step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alification probl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fication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you possibly characterize every single effect of an action, or every single exception that might occ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I put my bread into the toaster, and push the button, it will become toasted after two minutes, unles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aster is broken, o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ower is out, o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blow a fuse, o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utron bomb explodes nearby and fries all electrical components, o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eteor strikes the earth, and the world we know it ceases to exist, o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mification probl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, it’s just about impossible to characterize every side effect of every action, at every possible level of deta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I put my bread into the toaster, and push the button, the bread will become toasted after two minutes, an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rumbs that fall off the bread onto the bottom of the toaster over tray will also become toasted, a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 of the aforementioned crumbs will become burnt, a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outside molecules of the bread will become “toasted,” a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nside molecules of the bread will remain more “breadlike,” a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asting process will release a small amount of humidity into the air because of evaporation, a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ing elements will become a tiny fraction more likely to burn out the next time I use the toaster, a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lectricity meter in the house will move up slightly, an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nowledge engineering!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the “right” conditions and the “right” effects at the “right” level of abstraction is very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engineering (creating and maintaining knowledge bases for intelligent reasoning) is an entire field of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researchers hope that automated knowledge acquisition and machine learning tools can fill the g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intelligent systems should be able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bout the conditions and effects, just like we d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intelligent systems should be able to learn when to pay attention to, or reason about, certain aspects of processes, depending on the contex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ferences among a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lem with the Wumpus world knowledge base that we have built so far is that it is difficult to decide which action is best among a number of possibil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o decide between a forward and a grab, axioms describing when it is OK to move to a square would have to mention gli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modular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olve this problem b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parating facts about actions from facts about 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way ou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gent can be reprogrammed just by asking it to achieve different 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ferences among a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step is to describe the desirability of actions independent of each 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oing this we will use a simple scale: actions can be Great, Good, Medium, Risky, or Dead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viously, the agent should always do the best action it can fi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s) Great(a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on(a,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s) Good(a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Great(b,s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on(a,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s) Medium(a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Great(b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ood(b,s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on(a,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ferences among a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this action quality scale in the following 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it finds the gold, the basic strategy for our agent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actions include picking up the gold when found and climbing out of the cave with the go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actions include moving to a square that’s OK and hasn't been visited y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 actions include moving to a square that is OK and has already been visi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y actions include moving to a square that is not known to be deadly or O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y actions are moving into a square that is known to have a pit or a Wump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al-based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 gold is found, it is necessary to change strategies.  So now we need a new set of action val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ncode this as a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) Holding(Gold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oalLocation([1,1]),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now decide how the agent will work out a sequence of actions to accomplish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ossible approach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ood versus wasteful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ke a problem with operators and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o be discussed l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e ter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lid sen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ut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ntence that is True under all interpretations, no matter what the world is actually like or how the semantics are defined. Example: “It’s raining or it’s not rain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onsistent sen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adicti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ntence that is False under all interpretations. The world is never like what it describes, as in “It’s raining and it’s not rain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 entails 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ritten P |= Q, means that whenever P is True, so is Q. In other words, all models of P are also models of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th tab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otrthvl001s1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560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657600" y="4572000"/>
            <a:ext cx="36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3691080" y="4811760"/>
            <a:ext cx="304560" cy="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02:50:39Z</dcterms:created>
  <dc:creator>COGITO</dc:creator>
  <dc:description/>
  <dc:language>en-US</dc:language>
  <cp:lastModifiedBy>logicmoo</cp:lastModifiedBy>
  <cp:lastPrinted>1998-03-12T23:37:24Z</cp:lastPrinted>
  <dcterms:modified xsi:type="dcterms:W3CDTF">2015-10-23T22:07:39Z</dcterms:modified>
  <cp:revision>401</cp:revision>
  <dc:subject/>
  <dc:title>First-order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umbc.edu/~finin</vt:lpwstr>
  </property>
  <property fmtid="{D5CDD505-2E9C-101B-9397-08002B2CF9AE}" pid="9" name="LinkColor">
    <vt:r8>16711782</vt:r8>
  </property>
  <property fmtid="{D5CDD505-2E9C-101B-9397-08002B2CF9AE}" pid="10" name="MailAddress">
    <vt:lpwstr>finin@umb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finin\teaching\AI\RN\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