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CB9-A8E0-42C3-A35B-4DCFC4A9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D21-1BFA-4BED-84AB-55E28317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768-D0B0-4EC5-89BC-22F2B862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0D0-AC2A-4D2A-82FD-CF2074C4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973-897A-4257-A56E-C2935B15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10D-4683-4936-8EF9-370683E4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8AE-6EA7-4286-A748-BC366A62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CEE-EFFF-45F3-8C5C-0C17FBD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5EB-FBA7-4A2E-BA66-ACCED974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5A7-1015-4BFD-B7EA-9426936D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7D5-ADA5-4B61-872C-B9E94F8C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5BE-7450-4B56-AA16-22D7EF48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7969-0A70-4E26-BA08-41EE1F2D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KM’s Inference Algorithm</a:t>
            </a: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Cl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ing Math &amp; Computing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The next level of detai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s,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B loading/saving/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Further Reading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KM Man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KM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uilding Knowledge Bases from Reusable Component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AAI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, describes an example of the interleaving of backward chaining (path following) and automatic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sing Access Paths to Guide Inference with Conceptual Graphs”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CCS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 and animated powerpoint. Describes KM’s top-level algorithm in detail, along with a worked exam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point gives an animation of this inferencing in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note on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mplementation of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80880" y="63244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available at: http://www.cs.utexas.edu/users/mfkb/km.htm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The Top-Level KM Algorithm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tomic value return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apply a set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write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ecompose the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ng a KM expression corresponds to breaking up its equivalent logical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287440" y="3505320"/>
            <a:ext cx="4368600" cy="19234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M:       (the age of (the spouse of Pete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&gt; find x, (the spouse of Pet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&gt; find (the age of 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: {y | spouse(Pete,x), age(x,y)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&gt; find x in spouse(Pete,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&gt; find y in age(x,y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8580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, decomposed to KM’s basic ope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instance changes, re-check its class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The Top-Level KM Algorithm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14920" y="914400"/>
            <a:ext cx="8538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CEDURE km(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expr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) -&gt; 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valu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tomic value, retur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WRIT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TERN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WRITE A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m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&gt; f, km(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l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m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&gt; set, return i in set if km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m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&gt; boolean, if boolean then km(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IMITIV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lotsv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: Assert in K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ver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lotsv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: Assert in K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lotsv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: Generate Skolem, then assert in K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l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m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fram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&amp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CEDURE classify(instanc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properties chang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ck its classific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1. Computing the value of a slo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rrespond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lot(instance,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, can think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fun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all the information about instance’s s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and combine tha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1. Computing the value of a slo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92080" y="2128680"/>
            <a:ext cx="6717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;; Working on an individual cla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CEDURE:  (the 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lot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frame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) -&gt; 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valu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Find the set of "local" values on frame's sl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projection, subslots, global situation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. Find all the classes of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For each class, find the set of values on the class's sl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Set-unify the sets together km(set1 &amp;&amp; set2 &amp;&amp; .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r single-valued slots, do km(set1 &amp; set2 &amp; set3 ...)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. Find the local and inherited constraints on the sl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Check and enforce those constrai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Assert the resulting values on the frame's sl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Return the final set of valu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174080" y="2971800"/>
            <a:ext cx="124452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Fr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: 3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637680" y="1676520"/>
            <a:ext cx="217260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: (a Number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7848720" y="2285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2. Unification (asserting equality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yntact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of merging two data structures corresponds to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 of asserting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x = y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ings true of x will be true of y, and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e data structure denoting things true of x will also be part of the data structure denoting things true of y, and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2. Unification (asserting equality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91240" y="1523880"/>
            <a:ext cx="648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CEDURE: (frame1 &amp; frame2) -&gt; frame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Choose a name for the unified fra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me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For the slots used i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fram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m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Find the valu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lot 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me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Find the valu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slot 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me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reate a new structure (slot (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&amp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val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ind constraints on slot (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inherit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1, vals2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&amp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on'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olate constrai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ssemble these pieces togethe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me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lot1 (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&amp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lot2 (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&amp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ssert it in the K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"Bind"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me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fram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me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096320" y="2133720"/>
            <a:ext cx="1797840" cy="82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Fr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: 3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s: _Car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096320" y="3352680"/>
            <a:ext cx="179784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Person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s: _Car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698240" y="28954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031000" y="6203880"/>
            <a:ext cx="2084040" cy="642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ing List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Person2 -&gt; *Fr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489640" y="4648320"/>
            <a:ext cx="3457440" cy="82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Fr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: 3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s: ((_Car1) &amp;&amp; (_Car2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7848720" y="41148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3. Set Un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“sensibly” combine information from different fram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ink of this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eductive inference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uctive based on an additional coreference algorit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3. Set Unification 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49880" y="1676520"/>
            <a:ext cx="7351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CEDURE: (set1 &amp;&amp; set2) -&gt; set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For each val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et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Find a valu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hose classes are equal/generalization/specialization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hich can be consistently unified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If   there is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'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add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v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et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remov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v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ad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dd remaining value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Retur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1000" y="5410080"/>
            <a:ext cx="5862240" cy="337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_Cat1 _Dog1) &amp;&amp; ((a Cat) (a Dog)) -&gt; (_Cat1 _Dog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&amp;T Technology</dc:creator>
  <dc:description/>
  <dc:language>en-US</dc:language>
  <cp:lastModifiedBy>logicmoo</cp:lastModifiedBy>
  <dcterms:modified xsi:type="dcterms:W3CDTF">2015-10-23T22:08:11Z</dcterms:modified>
  <cp:revision>32</cp:revision>
  <dc:subject/>
  <dc:title>Guiding Inference with  Conceptual Graphs</dc:title>
</cp:coreProperties>
</file>