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79C-8DB7-4A1C-B5B2-138E2246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31D-AAC4-4BC4-83F6-A97F9963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DD4-DF05-4FF0-8E99-F2F2002D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9EA-98A1-4FE6-8FCF-501ECAB6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182-9746-42FF-9DCD-EC1ED5A8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692-3FA5-4FAA-A961-3EA4E0FB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C518-34DD-4DD9-B36E-B7C36A3A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9EE-FF18-4723-8449-8C5E9063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9E9-1EA6-4423-BDA3-7B55F334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516-DE7B-4614-AFE8-80347636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E22-C276-4FB3-B958-4505FCC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BBD-7ED0-4F77-8244-83B0C2D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BC8E-55F6-4E5E-8081-8492A8C4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a – OWLLink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1- Get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628640"/>
            <a:ext cx="7199640" cy="8240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1 - Get Descrip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getDescription],Response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GetDescription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GetDescription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 – CreateK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4365720"/>
            <a:ext cx="7559640" cy="70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ooleanResponse(true, []), ok([]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628640"/>
            <a:ext cx="7488000" cy="16758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in(URL) :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2 - Create K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A','B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B','C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sClassSatisfiable('http://owllink.org/examples/KB_1','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Response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CreateKB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CreateKB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Get Set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3573360"/>
            <a:ext cx="7561440" cy="1797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s([], [setting(uniqueNameAssumption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verbose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leanMode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keepsAxioms, xsd:boolean, tru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usesLessMemory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gnoresAnnotations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gnoresDeclarations, xsd: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ncremental, xsd:boolean, tru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abbreviatesIRIs, xsd:boolean, true)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413000"/>
            <a:ext cx="7634160" cy="13107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 Get Sett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ettings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],Response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RetrieveSettings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GetSettings-response-20091016.xml'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4 -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4221000"/>
            <a:ext cx="7634160" cy="167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s([], [setting(uniqueNameAssumption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verbose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leanMode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keepsAxioms, http://www.w3.org/2001/XMLSchema#boolean, tru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usesLessMemory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gnoresAnnotations, http://www.w3.org/2001/XMLSchema#boolean, fals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gnoresDeclarations, http://www.w3.org/2001/XMLSchema#boolean, fals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incremental, http://www.w3.org/2001/XMLSchema#boolean, true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ting(abbreviatesIRIs, http://www.w3.org/2001/XMLSchema#boolean, false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1484280"/>
            <a:ext cx="7775280" cy="1593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4 - Set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('http://owllink.org/examples/KB_1','abbreviatesIRIs',[false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ettings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],Response4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SetSettings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Set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('--------------------'),nl,print(Response4),nl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 - 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4653000"/>
            <a:ext cx="7993080" cy="143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2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manticError(Reasoning error 'Undefined concept name                  http://owllink.org/examples/ontology#ClassA in TBox                  http://owllink.org/examples/KB_2' occure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(SetOfClassSynsets, [], [element(ClassSynset, [], [element(owl:Class, [IRI=http://www.owllink.orgtest/ontClassA], [])])]), 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manticError(Reasoning error 'Undefined concept name                  http://owllink.org/examples/ontology#ClassA in TBox                  http://owllink.org/examples/KB_2' occure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366920"/>
            <a:ext cx="7993080" cy="26492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5 - Prefixes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2']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'Prefix'(name='test:',fullIRI='http://www.owllink.orgtest/ont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'Prefix'(name='ont:',fullIRI='http://owllink.org/examples/ontology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test:ClassA','ont:ClassA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('http://owllink.org/examples/KB_2','abbreviatesIRIs',[false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es('http://owllink.org/examples/KB_2','http://owllink.org/examples/ontology#ClassA',fals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es('http://owllink.org/examples/KB_2','ont:ClassA',fals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('http://owllink.org/examples/KB_2','abbreviatesIRIs',[true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es('http://owllink.org/examples/KB_2','http://owllink.org/examples/ontology#ClassA',fals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2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5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Prefixes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Prefix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 - Load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229360"/>
            <a:ext cx="82090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3, 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yntaxError(No valid OWLlink KBRequest request: LoadOntolog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413000"/>
            <a:ext cx="8209080" cy="2892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6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3']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'Prefix'(name='test:',fullIRI='http://www.owllink.orgtest/ont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'Prefix'(name='ont:',fullIRI='http://owllink.org/examples/ontology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adOntology('http://owllink.org/examples/KB_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ontologyIRI('IRI'='http://www.owllink.org/examples/ontologies/myOntology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ntologyIRI('IRI'='http://www.owllink.org/examples/ontologies/myOntology2'),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'IRIMapping'(key='http://www.owlllink.org/examples/ontologies/myOntology',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'IRI'='localhost://examples/ontologies/myOntology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ont:ClassA','test:ClassA')]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Response6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LoadOntology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LoadOntology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869000"/>
            <a:ext cx="7993080" cy="1432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yntaxError(Ignored non-valid OWLlink Tell requests: ((ClassAssertion                                            (Class A)                                            (Class iA)))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OfClasses([], [owl:Thing, C, B, E, A, D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tOfClasses([], [E, D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ooleanResponse(false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(SetOfClassSynsets, [], []), kb(http://owllink.org/examples/KB_2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bError(KB http://owllink.org/examples/KB_1 not found. Request deni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413000"/>
            <a:ext cx="8064360" cy="31359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B','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C','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valentClasses(['D','E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Assertion('A','i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C','A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AllClasses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EquivalentClasses('http://owllink.org/examples/KB_1','D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sClassSubsumedBy('http://owllink.org/examples/KB_1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'http://www.w3.org/2002/07/owl#Thing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'http://www.w3.org/2002/07/owl#Nothing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es('http://owllink.org/examples/KB_1','C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KB([kb='http://owllink.org/examples/KB_2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A','B'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AllClasses('http://owllink.org/examples/KB_1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Response7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reason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quest_file='../examples/owllink/thea-owllink-example-PoolingRequests-request.xml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ponse_file='../examples/owllink/owllink-example-poolingrequests-response-20091016.xml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8 - Tax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653000"/>
            <a:ext cx="8209080" cy="2040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kb(http://owllink.org/examples/KB_1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Hierarchy([], [classSubClassesPair(synset([owl:Thing]), [])]), kbError(KB http://owllink.org/examples/KB_2 already exists, request denied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bError(KB http://owllink.org/examples/KB_3 already exists, request denied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b(http://owllink.org/examples/KB_4, 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Hierarchy([], [classSubClassesPair(synset([owl:Thing]), []), classSubClassesPair(synset([B]), []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Hierarchy([], [classSubClassesPair(synset([owl:Thing]), []), classSubClassesPair(synset([http://www.owllink.orgtest/ontClassA]), [])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assHierarchy([], [classSubClassesPair(synset([owl:Thing, A]), []), classSubClassesPair(synset([owl:NoThing, C]), [])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k([])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836640"/>
            <a:ext cx="82090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% OWLLink Example 8 - Taxonomy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Hierarchy('http://owllink.org/examples/KB_1',_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KB([kb='http://owllink.org/examples/KB_2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2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A','http://www.w3.org/2002/07/owl#Thing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KB([kb='http://owllink.org/examples/KB_3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3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subClassOf('A','http://www.w3.org/2002/07/owl#Thing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B','A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D','A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eateKB([kb='http://owllink.org/examples/KB_4'],[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ll('http://owllink.org/examples/KB_4'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[equivalentClasses(['A','http://www.w3.org/2002/07/owl#Thing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valentClasses(['C','http://www.w3.org/2002/07/owl#NoThing']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bClassOf('B','http://www.w3.org/2002/07/owl#NoThing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),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Hierarchy('http://owllink.org/examples/KB_2',_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Hierarchy('http://owllink.org/examples/KB_3',_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etSubClassHierarchy('http://owllink.org/examples/KB_4',_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1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2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3'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easeKB('http://owllink.org/examples/KB_4'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],Response8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1:13:07Z</dcterms:created>
  <dc:creator>Vangelis Vassiliadis</dc:creator>
  <dc:description/>
  <dc:language>en-US</dc:language>
  <cp:lastModifiedBy>Vangelis Vassiliadis</cp:lastModifiedBy>
  <dcterms:modified xsi:type="dcterms:W3CDTF">2009-10-16T12:18:51Z</dcterms:modified>
  <cp:revision>12</cp:revision>
  <dc:subject/>
  <dc:title>Slide 1</dc:title>
</cp:coreProperties>
</file>