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93D-A275-4F64-9814-E882D8AE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7ECA-6671-4116-8D02-10BA54C3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A4B1-C458-4FEC-BC01-9054E53B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9682-1BA8-4050-96E7-382DD365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597C-555E-408F-BD59-29B93D53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8F12-14DB-4BA7-AE3D-82D763AC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58FE-6611-4560-83C1-9D36A4E7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C72B-4978-454A-96F0-EE1F0220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F04F-3618-4EA7-B6FB-43DA2A7D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46DC-0EE5-45D7-AE79-0A393A51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264E-B0F8-43E6-BFF0-810C82F6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14B-D87D-493B-8ED1-A9C9A996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883C-BAFD-4851-9D18-53A4B515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94EC-8658-4999-B6E8-F7E758A3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610F-BA75-4D8E-92AC-1C8ADB5C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EDDD-2FAC-413D-B56E-1C460009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649B-8EEB-4C97-8168-0B210248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398-3EE8-4898-89CC-F9862554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45F-E837-4711-AFA7-CD78F86B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BAC-BE1B-4775-AEEA-65A6B8C7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DB7E-BCB4-4A94-902E-8715C9C8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DCC-65EC-4B6A-8371-F2B28292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61A-E60D-4B41-9B61-230D0047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64A-09B3-480E-A3D3-6C243B05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2485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C8C2-C28B-4479-81C3-C5C82DB467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A326-C9C4-4BE0-9DB1-B8ABBA6487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56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ing OWL2 ontologies using Thea: An application of logic program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9000"/>
            <a:ext cx="7010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Vangelis Vassiliadis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n Wielemaker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ris Mungall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manticweb.g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U University Amsterdam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wrence Berkeley National Laborato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6F41-2939-4360-A578-D16C867EEC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ison with other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PARQ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means of updating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 RDF-centric for querying complex TBox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ck of ability to name queries (as in relational view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ck of aggregate que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ck of programm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… extensions (SPARQL upda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PP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e, SQL – lik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Protégé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a offers a complete programming langu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B4F-092A-4884-B3C5-220B9844DE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ison with OWLAP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043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WLAPI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ll featur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tu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ava API (OO languag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a: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larativ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s bridge via JP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asy scrip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880" y="3276720"/>
          <a:ext cx="4267440" cy="2895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276720"/>
                    <a:ext cx="42674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724280" y="3276720"/>
          <a:ext cx="3886200" cy="2879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24280" y="3276720"/>
                    <a:ext cx="388620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675600" y="3352680"/>
            <a:ext cx="92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02400" y="3352680"/>
            <a:ext cx="106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ad ti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se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597-ED4F-46A0-93AA-01D34F0A54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s and Next ste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WL2 support within Prolo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 support of OWL2 structural synta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sy programmatic access to query and process Ontologies within Prolo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ort and export to different forma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ules for external reasoning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xt Ste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rtability (other Prolog system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ments in efficiency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e modules (other I/Os, Reasoners et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and feedback from the community…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65A6-14F2-4D59-BE2C-55CDE324D2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ttp://github.com/vangelisv/the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7E6-C816-4320-9C4F-00F38373FB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log library for querying and processing OWL2 Ontolog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WL2 axioms as Prolog facts based on the OWL functional syntax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of Prolog as an application programming language (host language), rather than as an OWL reasoning eng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tensions / libraries to suppor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va OWL AP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WLLink serv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W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lation to DL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A09-D7AD-48A6-B1FA-5DF09E809D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phisticated Ontology engineering environment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werful reasoning server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DF centric tools ‘triple-focus’ not suitable for complex T-Boxes heavily axiomatized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T… need for Easy programmatic access to Ontologies or Knowledge bas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ry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ripting op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ild appli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B480-6E46-48D7-A0AC-6E14516ACA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Prolog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clarative features, pattern match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LD resolution, backward chain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s a Rule-based system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a uses Prolog as a Host programming language, not as a reasoning syst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WI-Prolog implementation, semweb package, efficient RDF libra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154C-F5DA-4AC8-BBE4-15572DCC43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a libr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6738" t="8255" r="4335" b="3715"/>
          <a:stretch/>
        </p:blipFill>
        <p:spPr>
          <a:xfrm>
            <a:off x="609480" y="1676520"/>
            <a:ext cx="792504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F3DB-FD41-48E8-B95B-B16BA1F7AA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a library: Model &amp; I/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rectly corresponds to the OWL2 structural syntax:</a:t>
            </a:r>
            <a:r>
              <a:rPr b="0" sz="1200" spc="-1" strike="noStrike">
                <a:solidFill>
                  <a:srgbClr val="336699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/O (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arsing – Serializ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DF/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WL2 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nchester synta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2819520"/>
            <a:ext cx="6934320" cy="1935360"/>
          </a:xfrm>
          <a:prstGeom prst="rect">
            <a:avLst/>
          </a:prstGeom>
          <a:solidFill>
            <a:srgbClr val="dddddd"/>
          </a:solidFill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3366"/>
                </a:solidFill>
                <a:latin typeface="Courier New"/>
              </a:rPr>
              <a:t>subClassOf(’http://example.org#Human’,’http://example.org#Mammal’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3366"/>
                </a:solidFill>
                <a:latin typeface="Courier New"/>
              </a:rPr>
              <a:t>OWL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3366"/>
                </a:solidFill>
                <a:latin typeface="Courier New"/>
              </a:rPr>
              <a:t>EquivalentClasses(forebrain_neur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1" sz="1100" spc="-1" strike="noStrike">
                <a:solidFill>
                  <a:srgbClr val="003366"/>
                </a:solidFill>
                <a:latin typeface="Courier New"/>
              </a:rPr>
              <a:t>intersectionOf(neur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3366"/>
                </a:solidFill>
                <a:latin typeface="Courier New"/>
              </a:rPr>
              <a:t>                                 </a:t>
            </a:r>
            <a:r>
              <a:rPr b="1" sz="1100" spc="-1" strike="noStrike">
                <a:solidFill>
                  <a:srgbClr val="003366"/>
                </a:solidFill>
                <a:latin typeface="Courier New"/>
              </a:rPr>
              <a:t>someValuesFrom(partOf forebrain)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3366"/>
                </a:solidFill>
                <a:latin typeface="Courier New"/>
              </a:rPr>
              <a:t>Prolo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100" spc="-1" strike="noStrike">
                <a:solidFill>
                  <a:srgbClr val="003366"/>
                </a:solidFill>
                <a:latin typeface="Courier New"/>
              </a:rPr>
              <a:t>equivalentClasses([forebrain_neuron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sz="1100" spc="-1" strike="noStrike">
                <a:solidFill>
                  <a:srgbClr val="003366"/>
                </a:solidFill>
                <a:latin typeface="Courier New"/>
              </a:rPr>
              <a:t>intersectionOf([neuron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3366"/>
                </a:solidFill>
                <a:latin typeface="Courier New"/>
              </a:rPr>
              <a:t>                </a:t>
            </a:r>
            <a:r>
              <a:rPr b="1" sz="1100" spc="-1" strike="noStrike">
                <a:solidFill>
                  <a:srgbClr val="003366"/>
                </a:solidFill>
                <a:latin typeface="Courier New"/>
              </a:rPr>
              <a:t>someValuesFrom(partOf, forebrain)])]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226-239B-45BB-823A-8051259624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a library: Reaso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752480"/>
          <a:ext cx="7958160" cy="3870360"/>
        </p:xfrm>
        <a:graphic>
          <a:graphicData uri="http://schemas.openxmlformats.org/drawingml/2006/table">
            <a:tbl>
              <a:tblPr/>
              <a:tblGrid>
                <a:gridCol w="2743200"/>
                <a:gridCol w="5214960"/>
              </a:tblGrid>
              <a:tr h="107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 Logic Program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equivalentClasses([only_has_part_a,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                   </a:t>
                      </a: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allValuesFrom(has_part, a)]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a(Y):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     </a:t>
                      </a: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has_part(X,Y),only_has_part_a(X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5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WR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?- prolog_clause_to_swrl_rule((hasUncle(X1,X3):- hasParent(X1,X2),hasBrother(X2,X3)),SWRL),swrl_to_owl_axioms(SWRL,Axiom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X1 = v(1), X3 = v(2), X2 = v(3)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SWRL = implies(['_d:hasParent'(v(1), v(3)), '_d:hasBrother'(v(3), v(2))], '_d:hasUncle'(v(1), v(2)))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Axiom = [subPropertyOf(propertyChain(['_d:hasParent', '_d:hasBrother']), '_d:hasUncle')]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ckward chai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subclass1(_X,'http://www.w3.org/2002/07/owl#Thing'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subclass1(X,Y) :-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subclassOf(X,intersectionOf(Z))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	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member(Y,Z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8D9-2C81-4173-A27E-8B5BA9D44D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a library: External reaso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67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WLAPI through SWI’s JPL package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WLLink (RacerPro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4800600"/>
            <a:ext cx="8153640" cy="1098360"/>
          </a:xfrm>
          <a:prstGeom prst="rect">
            <a:avLst/>
          </a:prstGeom>
          <a:noFill/>
          <a:ln w="936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// Respons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[kb(http://owllink.org/examples/KB_1, [])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yntaxError(Ignored non-valid OWLlink Tell requests: ((ClassAssertion (Class A) (Class iA))))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etOfClasses([], [owl:Thing, C, B, E, A, D])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etOfClasses([], [E, D])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element(SetOfClassSynsets, [], []),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514600"/>
            <a:ext cx="8153640" cy="210276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// Reques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owl_link(URL,[createKB([kb='http://owllink.org/examples/KB_1'],[])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ell('http://owllink.org/examples/KB_1'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[subClassOf('B','A')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ubClassOf('C','A')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equivalentClasses(['D','E'])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lassAssertion('A','iA')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ubClassOf('C','A')])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getAllClasses('http://owllink.org/examples/KB_1',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getEquivalentClasses('http://owllink.org/examples/KB_1','D')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getSubClasses('http://owllink.org/examples/KB_1','C')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7D6-8E29-4A0C-9895-482FBA43BD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981080"/>
          <a:ext cx="7881840" cy="3541680"/>
        </p:xfrm>
        <a:graphic>
          <a:graphicData uri="http://schemas.openxmlformats.org/drawingml/2006/table">
            <a:tbl>
              <a:tblPr/>
              <a:tblGrid>
                <a:gridCol w="2895480"/>
                <a:gridCol w="4986360"/>
              </a:tblGrid>
              <a:tr h="20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tology Quer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ast common ances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t # of class me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common_ancestor(X,Y,A) :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	</a:t>
                      </a: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entailed(subClassOf(X,A)), </a:t>
                      </a: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           </a:t>
                      </a: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entailed(subClassOf(Y,A)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least_common_ancestor(X,Y,A) :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	</a:t>
                      </a: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common_ancestor(X,Y,A)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	</a:t>
                      </a: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\+ ((common_ancestor(X,Y,A2), A2\=A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	</a:t>
                      </a: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entailed(subClassOf(A2,A)))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% 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class(C),aggregate(count,I,classAssertion(C,I),Num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47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tology Proce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force disjointUnion with excep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class(Y)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setof(X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      </a:t>
                      </a: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(subClassOf(X,Y)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       </a:t>
                      </a: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\+ annotationAssertion(status,X,unvett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      </a:t>
                      </a: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)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      </a:t>
                      </a: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Xs)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sz="1100" spc="-1" strike="noStrike">
                          <a:solidFill>
                            <a:srgbClr val="003366"/>
                          </a:solidFill>
                          <a:latin typeface="Courier New"/>
                        </a:rPr>
                        <a:t>assert_axiom(disjointUnion(Y,Xs)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0DA-1566-4888-AB48-833137B009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ngelis Vassiliadis</cp:lastModifiedBy>
  <dcterms:modified xsi:type="dcterms:W3CDTF">2009-10-23T17:47:20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