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9D2FE-D026-4374-B3F7-94D96B016E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E4510-6A8E-410F-8F8F-1190BE5A92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F5148-640A-4184-8040-F5F2A2F12A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3823D-4736-4396-BC0E-252C1A4E0F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07ECF-3A8B-4183-AD77-C5D02DF5E1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686ED-5EFD-4A34-A9A3-B290DFDE31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11B1C-0C45-4D79-A255-5D608DDCDA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640E6-61D9-40F0-8E3F-099B6D96F3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AE656-A6A4-4BFB-BBDF-F7E6316DE5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0C072-6ED9-47D9-AA4F-965A59F34E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D6A3C-0516-449F-B9F4-2245D2645A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02F55-6216-452E-A9D3-A8B5D8FFA9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84760" y="6399360"/>
            <a:ext cx="2682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A55CD-726E-4316-B64B-DA52E1561E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a OWL Libr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log library based on the OWL 2 functional-style synta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I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lows storage and manipulation of axioms as a Prolog databas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n translate ontologies to Description Logic progra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s OWLlink core via HTTP/XM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HTTP/Functional 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Foliennummernplatzhalter 3"/>
          <p:cNvSpPr/>
          <p:nvPr/>
        </p:nvSpPr>
        <p:spPr>
          <a:xfrm>
            <a:off x="7485120" y="6399360"/>
            <a:ext cx="2682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CC1B0-227A-40D7-99C0-7A92CD6D3E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a: Server Invo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Calibri"/>
              </a:rPr>
              <a:t>Dispatching of requests via </a:t>
            </a:r>
            <a:r>
              <a:rPr b="0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wl_link/2</a:t>
            </a:r>
            <a:r>
              <a:rPr b="0" sz="2800" spc="-1" strike="noStrike">
                <a:solidFill>
                  <a:srgbClr val="000000"/>
                </a:solidFill>
                <a:latin typeface="Calibri"/>
              </a:rPr>
              <a:t> predicat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wl_link(+ReasonerURL, +Request:list,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-Response:list,+Options:lis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Calibri"/>
                <a:ea typeface="Courier New"/>
              </a:rPr>
              <a:t>Sends the specified request to the given reasoner URL and binds the result to the response argument</a:t>
            </a:r>
            <a:br>
              <a:rPr sz="2800"/>
            </a:br>
            <a:r>
              <a:rPr b="0" sz="2800" spc="-1" strike="noStrike">
                <a:solidFill>
                  <a:srgbClr val="000000"/>
                </a:solidFill>
                <a:latin typeface="Calibri"/>
                <a:ea typeface="Courier New"/>
              </a:rPr>
              <a:t>(modulo some option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Calibri"/>
                <a:ea typeface="Courier New"/>
              </a:rPr>
              <a:t>Respective requests and response predicat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getDescription | getSettings(KB) | createKB(KB_Name_Attrs,Prefixes) |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scription(Name,MessageO,DescriptionList) | kb(KB,WarningO) | ok(WarningO) | ..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Foliennummernplatzhalter 3"/>
          <p:cNvSpPr/>
          <p:nvPr/>
        </p:nvSpPr>
        <p:spPr>
          <a:xfrm>
            <a:off x="7485120" y="6399360"/>
            <a:ext cx="2682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D0315-F85D-4486-BE9B-6F67E79A15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a: Example (#2 from Binding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3"/>
          <p:cNvSpPr/>
          <p:nvPr/>
        </p:nvSpPr>
        <p:spPr>
          <a:xfrm>
            <a:off x="7485120" y="6399360"/>
            <a:ext cx="2682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F2BB4-FAEF-488B-B468-011CBE9405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457200" y="1628640"/>
            <a:ext cx="8155080" cy="256284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in(URL) :-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% OWLLink Example 2 - Create K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wl_link(URL,[</a:t>
            </a:r>
            <a:r>
              <a:rPr b="0" lang="en-US" sz="1800" spc="-1" strike="noStrike">
                <a:solidFill>
                  <a:srgbClr val="333399"/>
                </a:solidFill>
                <a:latin typeface="Calibri"/>
              </a:rPr>
              <a:t>createKB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[kb='http://owllink.org/examples/KB_1'],[]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alibri"/>
              </a:rPr>
              <a:t>                              </a:t>
            </a:r>
            <a:r>
              <a:rPr b="0" lang="en-US" sz="1800" spc="-1" strike="noStrike">
                <a:solidFill>
                  <a:srgbClr val="333399"/>
                </a:solidFill>
                <a:latin typeface="Calibri"/>
              </a:rPr>
              <a:t>tel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'http://owllink.org/examples/KB_1'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[subClassOf('A','B'), subClassOf('B','C')]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800" spc="-1" strike="noStrike">
                <a:solidFill>
                  <a:srgbClr val="333399"/>
                </a:solidFill>
                <a:latin typeface="Calibri"/>
              </a:rPr>
              <a:t>isClassSatisfiabl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'http://owllink.org/examples/KB_1','A'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alibri"/>
              </a:rPr>
              <a:t>                               </a:t>
            </a:r>
            <a:r>
              <a:rPr b="0" lang="en-US" sz="1800" spc="-1" strike="noStrike">
                <a:solidFill>
                  <a:srgbClr val="333399"/>
                </a:solidFill>
                <a:latin typeface="Calibri"/>
              </a:rPr>
              <a:t>releaseKB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'http://owllink.org/examples/KB_1'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],Response2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[]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42"/>
          <p:cNvSpPr/>
          <p:nvPr/>
        </p:nvSpPr>
        <p:spPr>
          <a:xfrm>
            <a:off x="457200" y="5124600"/>
            <a:ext cx="8153280" cy="119124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[  </a:t>
            </a:r>
            <a:r>
              <a:rPr b="0" lang="en-US" sz="1800" spc="-1" strike="noStrike">
                <a:solidFill>
                  <a:srgbClr val="333399"/>
                </a:solidFill>
                <a:latin typeface="Calibri"/>
              </a:rPr>
              <a:t>kb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http://owllink.org/examples/KB_1, [])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333399"/>
                </a:solidFill>
                <a:latin typeface="Calibri"/>
              </a:rPr>
              <a:t>ok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[])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333399"/>
                </a:solidFill>
                <a:latin typeface="Calibri"/>
              </a:rPr>
              <a:t>booleanRespons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true, []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333399"/>
                </a:solidFill>
                <a:latin typeface="Calibri"/>
              </a:rPr>
              <a:t>ok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[]) 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a: Example (#7 from Binding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liennummernplatzhalter 3"/>
          <p:cNvSpPr/>
          <p:nvPr/>
        </p:nvSpPr>
        <p:spPr>
          <a:xfrm>
            <a:off x="7485120" y="6399360"/>
            <a:ext cx="2682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27601-D0AF-4C88-B772-8872033054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43"/>
          <p:cNvSpPr/>
          <p:nvPr/>
        </p:nvSpPr>
        <p:spPr>
          <a:xfrm>
            <a:off x="457200" y="1341360"/>
            <a:ext cx="8155080" cy="50317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% OWLLink Example 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wl_link(URL,[</a:t>
            </a:r>
            <a:r>
              <a:rPr b="0" lang="en-US" sz="1800" spc="-1" strike="noStrike">
                <a:solidFill>
                  <a:srgbClr val="333399"/>
                </a:solidFill>
                <a:latin typeface="Calibri"/>
              </a:rPr>
              <a:t>createKB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[kb='http://owllink.org/examples/KB_1'],[]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800" spc="-1" strike="noStrike">
                <a:solidFill>
                  <a:srgbClr val="333399"/>
                </a:solidFill>
                <a:latin typeface="Calibri"/>
              </a:rPr>
              <a:t>tel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'http://owllink.org/examples/KB_1'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[subClassOf('B','A'), subClassOf('C','A'),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quivalentClasses(['D','E']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0066"/>
                </a:solidFill>
                <a:latin typeface="Calibri"/>
              </a:rPr>
              <a:t>remove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0066"/>
                </a:solidFill>
                <a:latin typeface="Calibri"/>
              </a:rPr>
              <a:t>classAssertion('A','iA')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0066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ff0066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bClassOf('C','A’)]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800" spc="-1" strike="noStrike">
                <a:solidFill>
                  <a:srgbClr val="333399"/>
                </a:solidFill>
                <a:latin typeface="Calibri"/>
              </a:rPr>
              <a:t>getAllClass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'http://owllink.org/examples/KB_1'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800" spc="-1" strike="noStrike">
                <a:solidFill>
                  <a:srgbClr val="333399"/>
                </a:solidFill>
                <a:latin typeface="Calibri"/>
              </a:rPr>
              <a:t>getEquivalentClass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'http://owllink.org/examples/KB_1','D'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800" spc="-1" strike="noStrike">
                <a:solidFill>
                  <a:srgbClr val="333399"/>
                </a:solidFill>
                <a:latin typeface="Calibri"/>
              </a:rPr>
              <a:t>isClassSubsumedB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'http://owllink.org/examples/KB_1’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'http://www.w3.org/2002/07/owl#Thing'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'http://www.w3.org/2002/07/owl#Nothing'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800" spc="-1" strike="noStrike">
                <a:solidFill>
                  <a:srgbClr val="333399"/>
                </a:solidFill>
                <a:latin typeface="Calibri"/>
              </a:rPr>
              <a:t>getSubClass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'http://owllink.org/examples/KB_1','C'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800" spc="-1" strike="noStrike">
                <a:solidFill>
                  <a:srgbClr val="333399"/>
                </a:solidFill>
                <a:latin typeface="Calibri"/>
              </a:rPr>
              <a:t>createKB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[kb='http://owllink.org/examples/KB_2'],[]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800" spc="-1" strike="noStrike">
                <a:solidFill>
                  <a:srgbClr val="333399"/>
                </a:solidFill>
                <a:latin typeface="Calibri"/>
              </a:rPr>
              <a:t>tel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'http://owllink.org/examples/KB_2’, [subClassOf('A','B')]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800" spc="-1" strike="noStrike">
                <a:solidFill>
                  <a:srgbClr val="333399"/>
                </a:solidFill>
                <a:latin typeface="Calibri"/>
              </a:rPr>
              <a:t>releaseKB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'http://owllink.org/examples/KB_1'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800" spc="-1" strike="noStrike">
                <a:solidFill>
                  <a:srgbClr val="333399"/>
                </a:solidFill>
                <a:latin typeface="Calibri"/>
              </a:rPr>
              <a:t>getAllClass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'http://owllink.org/examples/KB_1’)],Response7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[]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a: Example (#7 from Binding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oliennummernplatzhalter 3"/>
          <p:cNvSpPr/>
          <p:nvPr/>
        </p:nvSpPr>
        <p:spPr>
          <a:xfrm>
            <a:off x="7485120" y="6399360"/>
            <a:ext cx="2682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19029-9580-4FB9-8A87-10F0895487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2"/>
          <p:cNvSpPr/>
          <p:nvPr/>
        </p:nvSpPr>
        <p:spPr>
          <a:xfrm>
            <a:off x="533520" y="1905120"/>
            <a:ext cx="8153280" cy="338580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[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Calibri"/>
              </a:rPr>
              <a:t>kb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http://owllink.org/examples/KB_1, []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ff0066"/>
                </a:solidFill>
                <a:latin typeface="Calibri"/>
              </a:rPr>
              <a:t>ok([]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333399"/>
                </a:solidFill>
                <a:latin typeface="Calibri"/>
              </a:rPr>
              <a:t>setOfClass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[], [owl:Thing, C, B, E, A, D])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333399"/>
                </a:solidFill>
                <a:latin typeface="Calibri"/>
              </a:rPr>
              <a:t>setOfClass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[], [E, D])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333399"/>
                </a:solidFill>
                <a:latin typeface="Calibri"/>
              </a:rPr>
              <a:t>booleanRespons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false, [])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lement(SetOfClassSynsets, [], []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333399"/>
                </a:solidFill>
                <a:latin typeface="Calibri"/>
              </a:rPr>
              <a:t>kb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http://owllink.org/examples/KB_2, [])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333399"/>
                </a:solidFill>
                <a:latin typeface="Calibri"/>
              </a:rPr>
              <a:t>ok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[]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333399"/>
                </a:solidFill>
                <a:latin typeface="Calibri"/>
              </a:rPr>
              <a:t>ok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[]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333399"/>
                </a:solidFill>
                <a:latin typeface="Calibri"/>
              </a:rPr>
              <a:t>kbErro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KB http://owllink.org/examples/KB_1 not found. Request denie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3T21:34:31Z</dcterms:created>
  <dc:creator>Marko Luther</dc:creator>
  <dc:description/>
  <cp:keywords/>
  <dc:language>en-US</dc:language>
  <cp:lastModifiedBy>Vangelis Vassiliadis</cp:lastModifiedBy>
  <cp:lastPrinted>2009-10-21T16:26:05Z</cp:lastPrinted>
  <dcterms:modified xsi:type="dcterms:W3CDTF">2009-10-25T10:17:56Z</dcterms:modified>
  <cp:revision>381</cp:revision>
  <dc:subject/>
  <dc:title>OWLlink</dc:title>
</cp:coreProperties>
</file>