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95E-7CEA-4ACE-82F1-E32B61FE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33E-212A-4FC1-B986-187AF2BD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0F5-0E4D-40B1-8B00-29806651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354-BDCC-4CFE-BDB7-757E906F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ED3-1576-43AC-AA89-617875D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9DE-BCE1-428C-A97B-CB8E4464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4E1-BEAE-41FD-9187-D062FEDA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107-1BCA-42A6-AA9B-0DD392F8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504-C76E-4EA4-9A30-44B70DA1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E3A-EB1A-478E-965C-B0B2934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A6D-AE01-475D-986D-F6D89C81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015E-DBBE-4C26-9F75-25E663E9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589-9660-40C2-9EBD-FEB5EDDD8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a – OWLLink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wl_link/2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%% owl_link(+ReasonerURL, +Request:list, -Response:list,+Options:list) is de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%  Implementes OWLLink over HTTP. Sends an OWLLink request to the ReasonerURL a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%  gets its Response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est synta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280360" cy="525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&lt;!--  Management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Settings(KB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createKB(KB_Name_Attrs,Prefixes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releaseKB(KB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set(KB,Key,Setting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isKBSatisfiable(KB) | isKBStructurallyConsistent(KB) | isTBoxConsistent(KB)  | loadOntology(KB,IRIMapping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reasoner invocation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classify(KB) | realize(KB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&lt;!-- Ask-RetrieveingKBEntitie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AllAnnotationProperties(KB) | getAllObjectProperties(KB) | getAllDatatypes(KB) | getAllIndividuals(KB) getAllDataProperties(KB) | getAllClasses(KB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ClassAsks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isClassSatisfiable(KB,Class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isClassSubsumedBy(KB,Class1,Class2) | areClassesDisjoint(KB,Classes) |  areClassesEquivalent(KB,Classes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ClassQuerie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SubClasses(KB,Class) | getSubClasses(KB,Class,Direct) | getSuperClasses(KB,Class) | getSuperClasses(KB,Class,Direct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ClassHierarchy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EquivalentClasses(KB,Class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SubClassHierarchy(KB,Clas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Individual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areIndividualsEquivalent(KB,Individuals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areIndividualsDisjoint(KB,Individuals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isInstanceOf(KB,Individual,Direct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IndividuualClassQuerysynset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Types(KB,Individual,Direct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FlattenTypes(KB,Individual,Direct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EquivalentIndividuals(KB,Individual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DisjointIndividuals(KB,Individual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FlattenDisjointIndividuals(KB,Individual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IndividualPropertyQuerie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ObjectPropertiesOfSource(KB,Individual,Negative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ObjectPropertiesBetween(KB,I1,I2,Negative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ObjectPropertiesOfFiller(KB,Individual,Negative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IndividualDataPropertyQuerie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DataPropertiesOfSource(KB,Individual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DataPropertiesBetween(KB,I1,Literal,Negative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DataPropertiesOfLiteral(KB,Literal,Negative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%      &lt;!-- Ask-IndividualIndividualQueries --&gt;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Instances(KB,Class)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ObjectPropertyFillers(KB,Individual,ObjectProperty,Negative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|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Courier New"/>
              </a:rPr>
              <a:t>getObjectPropertySources(KB,Individual,ObjectProperty,Negative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448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description(Name,MessageO,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kb(KB,WarningO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ok(WarningO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booleanResponse(Result,WarningO)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settings(WarningO,Setting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error(Message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syntaxError(Message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kbError(Message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semanticError(Message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classHierarchy(WarningO,Pairs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| 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setOfClasses(WarningO,ClassL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- Get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628640"/>
            <a:ext cx="7199640" cy="824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1 - Get Descrip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getDescription],Response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GetDescription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GetDescription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 – CreateK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365720"/>
            <a:ext cx="7559640" cy="70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ooleanResponse(true, []), 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628640"/>
            <a:ext cx="7488000" cy="167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in(URL) :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2 - Create K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B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C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sClassSatisfiable('http://owllink.org/examples/KB_1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CreateKB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CreateKB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Get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573360"/>
            <a:ext cx="7561440" cy="179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s([], [setting(uniqueNameAssumption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verbose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leanMode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keepsAxioms, xsd: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usesLessMemory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Annotations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Declarations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ncremental, xsd: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abbreviatesIRIs, xsd:boolean, true)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13000"/>
            <a:ext cx="7634160" cy="1310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 Get Set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etting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],Response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RetrieveSetting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GetSettings-response-20091016.xml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 -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21000"/>
            <a:ext cx="7634160" cy="167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s([], [setting(uniqueNameAssumption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verbose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leanMode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keepsAxioms, http://www.w3.org/2001/XMLSchema#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usesLessMemory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Annotations, http://www.w3.org/2001/XMLSchema#boolean, 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Declarations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ncremental, http://www.w3.org/2001/XMLSchema#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abbreviatesIRIs, http://www.w3.org/2001/XMLSchema#boolean, false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484280"/>
            <a:ext cx="7775280" cy="159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4 - Set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1','abbreviatesIRIs',[fals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etting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],Response4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SetSetting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Set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('--------------------'),nl,print(Response4),n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 -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653000"/>
            <a:ext cx="7993080" cy="143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2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manticError(Reasoning error 'Undefined concept name                  http://owllink.org/examples/ontology#ClassA in TBox                  http://owllink.org/examples/KB_2' occure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(SetOfClassSynsets, [], [element(ClassSynset, [], [element(owl:Class, [IRI=http://www.owllink.orgtest/ontClassA], [])])]), 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manticError(Reasoning error 'Undefined concept name                  http://owllink.org/examples/ontology#ClassA in TBox                  http://owllink.org/examples/KB_2' occure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366920"/>
            <a:ext cx="7993080" cy="2649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5 - Prefixes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2'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'Prefix'(name='test:',fullIRI='http://www.owllink.orgtest/ont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Prefix'(name='ont:',fullIRI='http://owllink.org/examples/ontology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test:ClassA','ont:ClassA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2','abbreviatesIRIs',[fals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http://owllink.org/examples/ontology#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ont: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2','abbreviatesIRIs',[tru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http://owllink.org/examples/ontology#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2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5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Prefixe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Prefix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 - Load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229360"/>
            <a:ext cx="82090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3, 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yntaxError(No valid OWLlink KBRequest request: LoadOntolog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413000"/>
            <a:ext cx="8209080" cy="289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6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3'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'Prefix'(name='test:',fullIRI='http://www.owllink.orgtest/ont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Prefix'(name='ont:',fullIRI='http://owllink.org/examples/ontology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adOntology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ontologyIRI('IRI'='http://www.owllink.org/examples/ontologies/myOntology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ntologyIRI('IRI'='http://www.owllink.org/examples/ontologies/myOntology2')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'IRIMapping'(key='http://www.owlllink.org/examples/ontologies/myOntology'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'IRI'='localhost://examples/ontologies/myOntology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ont:ClassA','test:ClassA')]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6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LoadOntology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LoadOntology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869000"/>
            <a:ext cx="7993080" cy="143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yntaxError(Ignored non-valid OWLlink Tell requests: ((ClassAssertion                                            (Class A)                                            (Class iA)))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OfClasses([], [owl:Thing, C, B, E, A, D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OfClasses([], [E, D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ooleanResponse(false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(SetOfClassSynsets, [], []), kb(http://owllink.org/examples/KB_2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Error(KB http://owllink.org/examples/KB_1 not found. Request deni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413000"/>
            <a:ext cx="8064360" cy="31359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B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C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valentClasses(['D','E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Assertion('A','i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C','A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AllClasse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EquivalentClasses('http://owllink.org/examples/KB_1','D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sClassSubsumedBy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http://www.w3.org/2002/07/owl#Thing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http://www.w3.org/2002/07/owl#Nothing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1','C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2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B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AllClasses('http://owllink.org/examples/KB_1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7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PoolingRequest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poolingrequests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8 -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8209080" cy="204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]), kbError(KB http://owllink.org/examples/KB_2 already exists, request denied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Error(KB http://owllink.org/examples/KB_3 already exists, request denied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(http://owllink.org/examples/KB_4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, classSubClassesPair(synset([B]), []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, classSubClassesPair(synset([http://www.owllink.orgtest/ontClassA]), [])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, A]), []), classSubClassesPair(synset([owl:NoThing, C]), []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836640"/>
            <a:ext cx="820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8 - Taxonomy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1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2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http://www.w3.org/2002/07/owl#Thing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3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http://www.w3.org/2002/07/owl#Thing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D','A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4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4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equivalentClasses(['A','http://www.w3.org/2002/07/owl#Thing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valentClasses(['C','http://www.w3.org/2002/07/owl#NoThing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http://www.w3.org/2002/07/owl#NoThing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2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3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4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2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3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4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8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13:07Z</dcterms:created>
  <dc:creator>Vangelis Vassiliadis</dc:creator>
  <dc:description/>
  <dc:language>en-US</dc:language>
  <cp:lastModifiedBy>Vangelis Vassiliadis</cp:lastModifiedBy>
  <dcterms:modified xsi:type="dcterms:W3CDTF">2009-10-25T02:12:26Z</dcterms:modified>
  <cp:revision>18</cp:revision>
  <dc:subject/>
  <dc:title>Slide 1</dc:title>
</cp:coreProperties>
</file>